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383-2C73-4A90-A38D-C4F1C6ED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225-4C53-405C-87E1-C1B78F45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D0D-956D-4D69-95D6-A615D1A8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A01-D28D-450B-9074-E1054183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CBE-1F19-4880-A547-C87F048F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533-375F-4A48-98D3-1CB96EBB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DBF-1DD9-41B6-B1A6-7300ECD4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F7E-AC27-4FCF-B006-EE41DCE5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7F4-6FE2-4A43-B121-F6D98EDB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AFA-AAF9-4C5F-A942-31764576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434-0D31-40DD-A418-6D982FB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DAA-F503-4C2F-B11D-85687B3E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EF3-10CA-469F-A61D-0D196600B9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緯度方向に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つのセンサーを持ち、エネルギー方向の掃引は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ミリ秒ごと。一方、衛星のスピン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秒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を用いて経度方向の掃引を行っている。 こうして得られた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次元分布関数は、テレメトリ容量の関係で、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秒間機上で積分された後、地上に送られる。右ではこうしたデータを更に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分間足し、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秒ずつずらしてアニメーション化。緑の直線は磁力線方向を示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839080" y="1905120"/>
            <a:ext cx="304560" cy="4205880"/>
            <a:chOff x="8839080" y="1905120"/>
            <a:chExt cx="304560" cy="4205880"/>
          </a:xfrm>
        </p:grpSpPr>
        <p:sp>
          <p:nvSpPr>
            <p:cNvPr id="43" name=""/>
            <p:cNvSpPr/>
            <p:nvPr/>
          </p:nvSpPr>
          <p:spPr>
            <a:xfrm>
              <a:off x="8839080" y="1905120"/>
              <a:ext cx="3045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子午面断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39080" y="4800240"/>
              <a:ext cx="3045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赤道面断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554520" y="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eV/q~8keV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0"/>
            <a:ext cx="6324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速度空間分布関数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実測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太陽風陽子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粒子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33400" y="38088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下流側では混ざってしまって粒子種を分離できない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804960"/>
            <a:ext cx="7238880" cy="62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21:45:21Z</dcterms:created>
  <dc:creator>寺沢</dc:creator>
  <dc:description/>
  <dc:language>en-US</dc:language>
  <cp:lastModifiedBy>terasawa</cp:lastModifiedBy>
  <dcterms:modified xsi:type="dcterms:W3CDTF">2004-03-24T07:33:45Z</dcterms:modified>
  <cp:revision>16</cp:revision>
  <dc:subject/>
  <dc:title>ｽﾗｲﾄﾞ ﾀｲﾄﾙなし</dc:title>
</cp:coreProperties>
</file>