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D50-7497-4FAC-8B8F-4A467D30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D01-CAC4-4B61-878A-CC895F6A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A38-A614-4E70-AB85-9253B33A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C1F-832E-47FA-B7C8-6BC9B678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671-60D6-4241-A42C-DA7BEC71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2AE-3215-4C64-A8A4-19B2C452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714-5223-44E9-BC16-5741EC7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CEF-370F-4F70-AFB8-82AD24D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927-5989-4CE9-8FD6-2F271CD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873-A91A-4EE5-A3E2-75DB1C3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981-1887-47CB-8B63-E03E699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04F-E3F7-4768-8CB6-65AFA87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E53-C85B-4D3E-986D-56ECB53B4F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8200" y="380880"/>
            <a:ext cx="75963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粒子加速と伝播：プラズマ物理と宇宙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Particle Acceleration and Propag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Plasma Physics and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寺沢敏夫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工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7560" y="5562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008.12.24   @ICR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セミナ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03240" y="22860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にかかわる残された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プラズマ物理学の観点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1295280"/>
            <a:ext cx="37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極高エネルギー宇宙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4280" y="1752480"/>
            <a:ext cx="253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反作用：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る衝撃波の変成・磁場増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320" y="2209680"/>
            <a:ext cx="697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陽子加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子加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古典的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/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どう説明する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現代的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ガンマ線の起源 陽子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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6880" y="3657600"/>
            <a:ext cx="367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ometry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平行か垂直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相対論的衝撃波・相対論的プラズマ乱流の構造は未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8440" y="449568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・衝撃波統計加速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38080" y="1219320"/>
            <a:ext cx="7575480" cy="4330440"/>
            <a:chOff x="838080" y="1219320"/>
            <a:chExt cx="7575480" cy="4330440"/>
          </a:xfrm>
        </p:grpSpPr>
        <p:sp>
          <p:nvSpPr>
            <p:cNvPr id="137" name=""/>
            <p:cNvSpPr/>
            <p:nvPr/>
          </p:nvSpPr>
          <p:spPr>
            <a:xfrm>
              <a:off x="838080" y="1219320"/>
              <a:ext cx="7575480" cy="3886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7600" y="51814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いささか各論的な話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080440" y="55627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線物理学・宇宙プラズマ物理学を包含する上位概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5040" y="609588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→“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6127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→現在、「宇宙素粒子物理学」の意味で使われ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は、“素粒子”に限らず、もっと通常の物質を含めて考えてよいのではない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普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Astrophysics/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…地球外から飛来する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光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用いた宇宙現象の認識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対象とする物理学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stroparticle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→地球外から飛来する</a:t>
            </a:r>
            <a:r>
              <a:rPr b="1" lang="ja-JP" sz="2400" spc="-1" strike="noStrike">
                <a:solidFill>
                  <a:srgbClr val="ff0000"/>
                </a:solidFill>
                <a:latin typeface="ＭＳ Ｐゴシック"/>
              </a:rPr>
              <a:t>物質粒子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用いた宇宙現象の認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を対象とする物理学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Renespec" descr=""/>
          <p:cNvPicPr/>
          <p:nvPr/>
        </p:nvPicPr>
        <p:blipFill>
          <a:blip r:embed="rId1"/>
          <a:stretch/>
        </p:blipFill>
        <p:spPr>
          <a:xfrm>
            <a:off x="3354480" y="1143000"/>
            <a:ext cx="4751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293640" y="533520"/>
            <a:ext cx="5149080" cy="685800"/>
            <a:chOff x="3293640" y="533520"/>
            <a:chExt cx="5149080" cy="685800"/>
          </a:xfrm>
        </p:grpSpPr>
        <p:sp>
          <p:nvSpPr>
            <p:cNvPr id="144" name=""/>
            <p:cNvSpPr/>
            <p:nvPr/>
          </p:nvSpPr>
          <p:spPr>
            <a:xfrm>
              <a:off x="3293640" y="533520"/>
              <a:ext cx="51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00MeV                                       1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876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38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62360" y="762120"/>
            <a:ext cx="2747160" cy="685800"/>
            <a:chOff x="1062360" y="762120"/>
            <a:chExt cx="2747160" cy="685800"/>
          </a:xfrm>
        </p:grpSpPr>
        <p:sp>
          <p:nvSpPr>
            <p:cNvPr id="148" name=""/>
            <p:cNvSpPr/>
            <p:nvPr/>
          </p:nvSpPr>
          <p:spPr>
            <a:xfrm flipH="1">
              <a:off x="1371240" y="1447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2360" y="762120"/>
              <a:ext cx="26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eV        1keV        1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390680" y="1066680"/>
              <a:ext cx="1885680" cy="304920"/>
              <a:chOff x="1390680" y="1066680"/>
              <a:chExt cx="1885680" cy="304920"/>
            </a:xfrm>
          </p:grpSpPr>
          <p:sp>
            <p:nvSpPr>
              <p:cNvPr id="151" name=""/>
              <p:cNvSpPr/>
              <p:nvPr/>
            </p:nvSpPr>
            <p:spPr>
              <a:xfrm>
                <a:off x="13906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140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7636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208160" y="1523880"/>
            <a:ext cx="1400040" cy="685800"/>
            <a:chOff x="1208160" y="1523880"/>
            <a:chExt cx="1400040" cy="685800"/>
          </a:xfrm>
        </p:grpSpPr>
        <p:sp>
          <p:nvSpPr>
            <p:cNvPr id="155" name=""/>
            <p:cNvSpPr/>
            <p:nvPr/>
          </p:nvSpPr>
          <p:spPr>
            <a:xfrm>
              <a:off x="1295280" y="2209680"/>
              <a:ext cx="1219320" cy="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8160" y="15238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太陽風プラズ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電子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陽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00400" y="2819520"/>
            <a:ext cx="1219320" cy="533160"/>
            <a:chOff x="3200400" y="2819520"/>
            <a:chExt cx="1219320" cy="533160"/>
          </a:xfrm>
        </p:grpSpPr>
        <p:sp>
          <p:nvSpPr>
            <p:cNvPr id="158" name=""/>
            <p:cNvSpPr/>
            <p:nvPr/>
          </p:nvSpPr>
          <p:spPr>
            <a:xfrm>
              <a:off x="3200400" y="3352680"/>
              <a:ext cx="121932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98760" y="2819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6600"/>
                  </a:solidFill>
                  <a:latin typeface="Times New Roman"/>
                </a:rPr>
                <a:t>太陽宇宙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286000" y="2362320"/>
            <a:ext cx="1219320" cy="380880"/>
            <a:chOff x="2286000" y="2362320"/>
            <a:chExt cx="1219320" cy="380880"/>
          </a:xfrm>
        </p:grpSpPr>
        <p:sp>
          <p:nvSpPr>
            <p:cNvPr id="161" name=""/>
            <p:cNvSpPr/>
            <p:nvPr/>
          </p:nvSpPr>
          <p:spPr>
            <a:xfrm>
              <a:off x="2286000" y="2743200"/>
              <a:ext cx="121932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1600" y="236232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cc33"/>
                  </a:solidFill>
                  <a:latin typeface="Times New Roman"/>
                </a:rPr>
                <a:t>準熱的粒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0880" y="3657600"/>
            <a:ext cx="3657600" cy="1541880"/>
            <a:chOff x="380880" y="3657600"/>
            <a:chExt cx="3657600" cy="1541880"/>
          </a:xfrm>
        </p:grpSpPr>
        <p:sp>
          <p:nvSpPr>
            <p:cNvPr id="164" name=""/>
            <p:cNvSpPr/>
            <p:nvPr/>
          </p:nvSpPr>
          <p:spPr>
            <a:xfrm>
              <a:off x="1295280" y="3657600"/>
              <a:ext cx="1676520" cy="304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495680"/>
              <a:ext cx="365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ff"/>
                  </a:solidFill>
                  <a:latin typeface="Times New Roman"/>
                </a:rPr>
                <a:t>超新星残骸のプラズマ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ff"/>
                  </a:solidFill>
                  <a:latin typeface="Times New Roman"/>
                </a:rPr>
                <a:t>銀河団のプラズマなどの例を考えても、エネルギー範囲はあまり変わらな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81080" y="4038480"/>
              <a:ext cx="304920" cy="533520"/>
            </a:xfrm>
            <a:prstGeom prst="upArrow">
              <a:avLst>
                <a:gd name="adj1" fmla="val 50000"/>
                <a:gd name="adj2" fmla="val 437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82800" y="3886200"/>
            <a:ext cx="6789600" cy="1294920"/>
            <a:chOff x="982800" y="3886200"/>
            <a:chExt cx="6789600" cy="1294920"/>
          </a:xfrm>
        </p:grpSpPr>
        <p:sp>
          <p:nvSpPr>
            <p:cNvPr id="168" name=""/>
            <p:cNvSpPr/>
            <p:nvPr/>
          </p:nvSpPr>
          <p:spPr>
            <a:xfrm>
              <a:off x="1523880" y="3886200"/>
              <a:ext cx="6248520" cy="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264200"/>
              <a:ext cx="23126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Astroparticle physics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この全域、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桁に及ぶ範囲をカバ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すべき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/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したい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0" y="3657600"/>
            <a:ext cx="9296280" cy="337320"/>
            <a:chOff x="0" y="3657600"/>
            <a:chExt cx="9296280" cy="337320"/>
          </a:xfrm>
        </p:grpSpPr>
        <p:sp>
          <p:nvSpPr>
            <p:cNvPr id="171" name=""/>
            <p:cNvSpPr/>
            <p:nvPr/>
          </p:nvSpPr>
          <p:spPr>
            <a:xfrm>
              <a:off x="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低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08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高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417920" y="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120" y="609480"/>
            <a:ext cx="1311120" cy="838440"/>
            <a:chOff x="60120" y="609480"/>
            <a:chExt cx="1311120" cy="838440"/>
          </a:xfrm>
        </p:grpSpPr>
        <p:sp>
          <p:nvSpPr>
            <p:cNvPr id="175" name=""/>
            <p:cNvSpPr/>
            <p:nvPr/>
          </p:nvSpPr>
          <p:spPr>
            <a:xfrm flipH="1">
              <a:off x="304560" y="1447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120" y="60948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~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Renespec" descr=""/>
          <p:cNvPicPr/>
          <p:nvPr/>
        </p:nvPicPr>
        <p:blipFill>
          <a:blip r:embed="rId1"/>
          <a:stretch/>
        </p:blipFill>
        <p:spPr>
          <a:xfrm>
            <a:off x="3354480" y="1143000"/>
            <a:ext cx="4751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293640" y="533520"/>
            <a:ext cx="5149080" cy="685800"/>
            <a:chOff x="3293640" y="533520"/>
            <a:chExt cx="5149080" cy="685800"/>
          </a:xfrm>
        </p:grpSpPr>
        <p:sp>
          <p:nvSpPr>
            <p:cNvPr id="179" name=""/>
            <p:cNvSpPr/>
            <p:nvPr/>
          </p:nvSpPr>
          <p:spPr>
            <a:xfrm>
              <a:off x="3293640" y="533520"/>
              <a:ext cx="51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00MeV                                       10</a:t>
              </a:r>
              <a:r>
                <a:rPr b="0" lang="ja-JP" sz="24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76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3840" y="914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062360" y="762120"/>
            <a:ext cx="2747160" cy="685800"/>
            <a:chOff x="1062360" y="762120"/>
            <a:chExt cx="2747160" cy="685800"/>
          </a:xfrm>
        </p:grpSpPr>
        <p:sp>
          <p:nvSpPr>
            <p:cNvPr id="183" name=""/>
            <p:cNvSpPr/>
            <p:nvPr/>
          </p:nvSpPr>
          <p:spPr>
            <a:xfrm flipH="1">
              <a:off x="1371240" y="1447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2360" y="762120"/>
              <a:ext cx="26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eV        1keV        1M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390680" y="1066680"/>
              <a:ext cx="1885680" cy="304920"/>
              <a:chOff x="1390680" y="1066680"/>
              <a:chExt cx="1885680" cy="304920"/>
            </a:xfrm>
          </p:grpSpPr>
          <p:sp>
            <p:nvSpPr>
              <p:cNvPr id="186" name=""/>
              <p:cNvSpPr/>
              <p:nvPr/>
            </p:nvSpPr>
            <p:spPr>
              <a:xfrm>
                <a:off x="13906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1408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76360" y="1066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208160" y="1523880"/>
            <a:ext cx="1400040" cy="685800"/>
            <a:chOff x="1208160" y="1523880"/>
            <a:chExt cx="1400040" cy="685800"/>
          </a:xfrm>
        </p:grpSpPr>
        <p:sp>
          <p:nvSpPr>
            <p:cNvPr id="190" name=""/>
            <p:cNvSpPr/>
            <p:nvPr/>
          </p:nvSpPr>
          <p:spPr>
            <a:xfrm>
              <a:off x="1295280" y="2209680"/>
              <a:ext cx="1219320" cy="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08160" y="152388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太陽風プラズ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電子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ja-JP" sz="1400" spc="-1" strike="noStrike">
                  <a:solidFill>
                    <a:srgbClr val="3333cc"/>
                  </a:solidFill>
                  <a:latin typeface="Times New Roman"/>
                </a:rPr>
                <a:t>  陽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00400" y="2819520"/>
            <a:ext cx="1219320" cy="533160"/>
            <a:chOff x="3200400" y="2819520"/>
            <a:chExt cx="1219320" cy="533160"/>
          </a:xfrm>
        </p:grpSpPr>
        <p:sp>
          <p:nvSpPr>
            <p:cNvPr id="193" name=""/>
            <p:cNvSpPr/>
            <p:nvPr/>
          </p:nvSpPr>
          <p:spPr>
            <a:xfrm>
              <a:off x="3200400" y="3352680"/>
              <a:ext cx="1219320" cy="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98760" y="2819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cc6600"/>
                  </a:solidFill>
                  <a:latin typeface="Times New Roman"/>
                </a:rPr>
                <a:t>太陽宇宙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86000" y="2362320"/>
            <a:ext cx="1219320" cy="380880"/>
            <a:chOff x="2286000" y="2362320"/>
            <a:chExt cx="1219320" cy="380880"/>
          </a:xfrm>
        </p:grpSpPr>
        <p:sp>
          <p:nvSpPr>
            <p:cNvPr id="196" name=""/>
            <p:cNvSpPr/>
            <p:nvPr/>
          </p:nvSpPr>
          <p:spPr>
            <a:xfrm>
              <a:off x="2286000" y="2743200"/>
              <a:ext cx="121932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1600" y="236232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33cc33"/>
                  </a:solidFill>
                  <a:latin typeface="Times New Roman"/>
                </a:rPr>
                <a:t>準熱的粒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0" y="3657600"/>
            <a:ext cx="9296280" cy="337320"/>
            <a:chOff x="0" y="3657600"/>
            <a:chExt cx="9296280" cy="337320"/>
          </a:xfrm>
        </p:grpSpPr>
        <p:sp>
          <p:nvSpPr>
            <p:cNvPr id="199" name=""/>
            <p:cNvSpPr/>
            <p:nvPr/>
          </p:nvSpPr>
          <p:spPr>
            <a:xfrm>
              <a:off x="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低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96080" y="3657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3399"/>
                  </a:solidFill>
                  <a:latin typeface="Times New Roman"/>
                </a:rPr>
                <a:t>超高エネルギ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417920" y="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stro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57200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低エネルギーフロンティ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4419720"/>
            <a:ext cx="2362320" cy="457200"/>
          </a:xfrm>
          <a:custGeom>
            <a:avLst/>
            <a:gdLst>
              <a:gd name="textAreaLeft" fmla="*/ 29520 w 2362320"/>
              <a:gd name="textAreaRight" fmla="*/ 2332800 w 2362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1535" h="21600">
                <a:moveTo>
                  <a:pt x="0" y="0"/>
                </a:moveTo>
                <a:lnTo>
                  <a:pt x="111535" y="0"/>
                </a:lnTo>
                <a:lnTo>
                  <a:pt x="111535" y="21600"/>
                </a:lnTo>
                <a:lnTo>
                  <a:pt x="0" y="21600"/>
                </a:lnTo>
                <a:close/>
              </a:path>
              <a:path fill="lightenLess" w="111535" h="21600">
                <a:moveTo>
                  <a:pt x="0" y="0"/>
                </a:moveTo>
                <a:lnTo>
                  <a:pt x="111535" y="0"/>
                </a:lnTo>
                <a:lnTo>
                  <a:pt x="110135" y="1400"/>
                </a:lnTo>
                <a:lnTo>
                  <a:pt x="1400" y="1400"/>
                </a:lnTo>
                <a:close/>
              </a:path>
              <a:path fill="darken" w="111535" h="21600">
                <a:moveTo>
                  <a:pt x="111535" y="0"/>
                </a:moveTo>
                <a:lnTo>
                  <a:pt x="111535" y="21600"/>
                </a:lnTo>
                <a:lnTo>
                  <a:pt x="110135" y="20200"/>
                </a:lnTo>
                <a:lnTo>
                  <a:pt x="110135" y="1400"/>
                </a:lnTo>
                <a:close/>
              </a:path>
              <a:path fill="darkenLess" w="111535" h="21600">
                <a:moveTo>
                  <a:pt x="11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135" y="20200"/>
                </a:lnTo>
                <a:close/>
              </a:path>
              <a:path fill="lighten" w="11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「高エネルギー」フロンティ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120" y="609480"/>
            <a:ext cx="1311120" cy="838440"/>
            <a:chOff x="60120" y="609480"/>
            <a:chExt cx="1311120" cy="838440"/>
          </a:xfrm>
        </p:grpSpPr>
        <p:sp>
          <p:nvSpPr>
            <p:cNvPr id="205" name=""/>
            <p:cNvSpPr/>
            <p:nvPr/>
          </p:nvSpPr>
          <p:spPr>
            <a:xfrm flipH="1">
              <a:off x="304560" y="14479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20" y="609480"/>
              <a:ext cx="11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3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~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28600" y="403848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非相対論的衝撃波の観測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038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.e</a:t>
            </a:r>
            <a:r>
              <a:rPr b="0" lang="ja-JP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4956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異方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029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.S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E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5105520"/>
            <a:ext cx="1295640" cy="30456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806" h="21600">
                <a:moveTo>
                  <a:pt x="0" y="0"/>
                </a:moveTo>
                <a:lnTo>
                  <a:pt x="91806" y="0"/>
                </a:lnTo>
                <a:lnTo>
                  <a:pt x="91806" y="21600"/>
                </a:lnTo>
                <a:lnTo>
                  <a:pt x="0" y="21600"/>
                </a:lnTo>
                <a:close/>
              </a:path>
              <a:path fill="lightenLess" w="91806" h="21600">
                <a:moveTo>
                  <a:pt x="0" y="0"/>
                </a:moveTo>
                <a:lnTo>
                  <a:pt x="91806" y="0"/>
                </a:lnTo>
                <a:lnTo>
                  <a:pt x="90406" y="1400"/>
                </a:lnTo>
                <a:lnTo>
                  <a:pt x="1400" y="1400"/>
                </a:lnTo>
                <a:close/>
              </a:path>
              <a:path fill="darken" w="91806" h="21600">
                <a:moveTo>
                  <a:pt x="91806" y="0"/>
                </a:moveTo>
                <a:lnTo>
                  <a:pt x="91806" y="21600"/>
                </a:lnTo>
                <a:lnTo>
                  <a:pt x="90406" y="20200"/>
                </a:lnTo>
                <a:lnTo>
                  <a:pt x="90406" y="1400"/>
                </a:lnTo>
                <a:close/>
              </a:path>
              <a:path fill="darkenLess" w="91806" h="21600">
                <a:moveTo>
                  <a:pt x="91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406" y="20200"/>
                </a:lnTo>
                <a:close/>
              </a:path>
              <a:path fill="lighten" w="91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起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571500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加速以外の加速機構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181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変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5181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衝撃波角依存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6248520"/>
            <a:ext cx="2819520" cy="433440"/>
          </a:xfrm>
          <a:custGeom>
            <a:avLst/>
            <a:gdLst>
              <a:gd name="textAreaLeft" fmla="*/ 28080 w 2819520"/>
              <a:gd name="textAreaRight" fmla="*/ 2791440 w 2819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9009" y="1400"/>
                </a:lnTo>
                <a:lnTo>
                  <a:pt x="1400" y="1400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9009" y="20200"/>
                </a:lnTo>
                <a:lnTo>
                  <a:pt x="139009" y="1400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009" y="20200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大規模シミュレーショ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124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以下のボタンから各ファイルへのリンクは、コピーに際して外れ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4991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91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5410080" y="2514600"/>
            <a:ext cx="3505320" cy="3353040"/>
            <a:chOff x="5410080" y="2514600"/>
            <a:chExt cx="3505320" cy="3353040"/>
          </a:xfrm>
        </p:grpSpPr>
        <p:grpSp>
          <p:nvGrpSpPr>
            <p:cNvPr id="220" name=""/>
            <p:cNvGrpSpPr/>
            <p:nvPr/>
          </p:nvGrpSpPr>
          <p:grpSpPr>
            <a:xfrm>
              <a:off x="5410080" y="2971440"/>
              <a:ext cx="3505320" cy="2896200"/>
              <a:chOff x="5410080" y="2971440"/>
              <a:chExt cx="3505320" cy="289620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2971440"/>
                <a:ext cx="3505320" cy="25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5702760" y="5530320"/>
                <a:ext cx="29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Svensmark, A&amp;G, 48, 1.18, 200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628680" y="2514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雲と宇宙線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47920" y="1828800"/>
            <a:ext cx="3251160" cy="2057400"/>
            <a:chOff x="1447920" y="1828800"/>
            <a:chExt cx="3251160" cy="2057400"/>
          </a:xfrm>
        </p:grpSpPr>
        <p:grpSp>
          <p:nvGrpSpPr>
            <p:cNvPr id="225" name=""/>
            <p:cNvGrpSpPr/>
            <p:nvPr/>
          </p:nvGrpSpPr>
          <p:grpSpPr>
            <a:xfrm>
              <a:off x="1447920" y="2413080"/>
              <a:ext cx="3251160" cy="1473120"/>
              <a:chOff x="1447920" y="2413080"/>
              <a:chExt cx="3251160" cy="147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3353040" y="3657600"/>
                <a:ext cx="990360" cy="2286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81640" y="3124080"/>
                <a:ext cx="609480" cy="3812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22840" y="3467160"/>
                <a:ext cx="876240" cy="190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47920" y="2413080"/>
                <a:ext cx="914400" cy="2109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333520" y="1828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宇宙線関係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52880" y="0"/>
            <a:ext cx="4190760" cy="2444760"/>
            <a:chOff x="4952880" y="0"/>
            <a:chExt cx="4190760" cy="244476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rcRect l="0" t="0" r="0" b="45471"/>
            <a:stretch/>
          </p:blipFill>
          <p:spPr>
            <a:xfrm>
              <a:off x="4952880" y="457200"/>
              <a:ext cx="4190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168240" y="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宇宙線と環境問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88640" y="45720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</a:rPr>
                <a:t>地球環境変動への影響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805440" y="64771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24760" y="64771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105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ho ordered UHECR?’ said M. Fukush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3716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「加速」 —宇宙線の起源—の理解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の物理的解明にとって本質的だろう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21280" y="3808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 Unicode MS"/>
              </a:rPr>
              <a:t>粒子加速と伝播：プラズマ物理と宇宙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37040" y="25909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福島さん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一節をお借りし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76520" y="2514600"/>
            <a:ext cx="7110360" cy="2286000"/>
            <a:chOff x="1676520" y="2514600"/>
            <a:chExt cx="7110360" cy="2286000"/>
          </a:xfrm>
        </p:grpSpPr>
        <p:sp>
          <p:nvSpPr>
            <p:cNvPr id="48" name=""/>
            <p:cNvSpPr/>
            <p:nvPr/>
          </p:nvSpPr>
          <p:spPr>
            <a:xfrm>
              <a:off x="1676520" y="358128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 ‘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Who ordered muon?’ said I. Rabi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086600" y="2514600"/>
              <a:ext cx="170028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9040" y="30492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理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59040" y="990720"/>
            <a:ext cx="6167880" cy="1492200"/>
            <a:chOff x="959040" y="990720"/>
            <a:chExt cx="6167880" cy="1492200"/>
          </a:xfrm>
        </p:grpSpPr>
        <p:graphicFrame>
          <p:nvGraphicFramePr>
            <p:cNvPr id="52" name=""/>
            <p:cNvGraphicFramePr/>
            <p:nvPr/>
          </p:nvGraphicFramePr>
          <p:xfrm>
            <a:off x="2743200" y="1523880"/>
            <a:ext cx="2787480" cy="95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523880"/>
                      <a:ext cx="278748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959040" y="99072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原理その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97960" y="990720"/>
              <a:ext cx="382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電磁場のローレンツ変換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ローレンツ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2514600" y="103320"/>
          <a:ext cx="374652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03320"/>
                    <a:ext cx="37465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762120" y="1523880"/>
            <a:ext cx="7619760" cy="5176800"/>
            <a:chOff x="762120" y="1523880"/>
            <a:chExt cx="7619760" cy="5176800"/>
          </a:xfrm>
        </p:grpSpPr>
        <p:grpSp>
          <p:nvGrpSpPr>
            <p:cNvPr id="59" name=""/>
            <p:cNvGrpSpPr/>
            <p:nvPr/>
          </p:nvGrpSpPr>
          <p:grpSpPr>
            <a:xfrm>
              <a:off x="762120" y="2585880"/>
              <a:ext cx="7619760" cy="4114800"/>
              <a:chOff x="762120" y="2585880"/>
              <a:chExt cx="7619760" cy="4114800"/>
            </a:xfrm>
          </p:grpSpPr>
          <p:sp>
            <p:nvSpPr>
              <p:cNvPr id="60" name=""/>
              <p:cNvSpPr/>
              <p:nvPr/>
            </p:nvSpPr>
            <p:spPr>
              <a:xfrm>
                <a:off x="762120" y="2585880"/>
                <a:ext cx="7619760" cy="411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" name=""/>
              <p:cNvGraphicFramePr/>
              <p:nvPr/>
            </p:nvGraphicFramePr>
            <p:xfrm>
              <a:off x="1371600" y="3119400"/>
              <a:ext cx="5943600" cy="1103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71600" y="3119400"/>
                        <a:ext cx="5943600" cy="110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1567440" y="2662200"/>
                <a:ext cx="219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サイクロトロン共鳴条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4" name=""/>
              <p:cNvGraphicFramePr/>
              <p:nvPr/>
            </p:nvGraphicFramePr>
            <p:xfrm>
              <a:off x="2819520" y="4110120"/>
              <a:ext cx="3611520" cy="431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819520" y="4110120"/>
                        <a:ext cx="3611520" cy="431640"/>
                      </a:xfrm>
                      <a:prstGeom prst="rect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" name=""/>
              <p:cNvGraphicFramePr/>
              <p:nvPr/>
            </p:nvGraphicFramePr>
            <p:xfrm>
              <a:off x="2209680" y="4719600"/>
              <a:ext cx="4572000" cy="1020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209680" y="4719600"/>
                        <a:ext cx="4572000" cy="102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8" name=""/>
              <p:cNvGraphicFramePr/>
              <p:nvPr/>
            </p:nvGraphicFramePr>
            <p:xfrm>
              <a:off x="2895480" y="5791320"/>
              <a:ext cx="3124440" cy="842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895480" y="5791320"/>
                        <a:ext cx="3124440" cy="84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0" name=""/>
            <p:cNvGrpSpPr/>
            <p:nvPr/>
          </p:nvGrpSpPr>
          <p:grpSpPr>
            <a:xfrm>
              <a:off x="3429000" y="1523880"/>
              <a:ext cx="2057400" cy="1067040"/>
              <a:chOff x="3429000" y="1523880"/>
              <a:chExt cx="2057400" cy="1067040"/>
            </a:xfrm>
          </p:grpSpPr>
          <p:sp>
            <p:nvSpPr>
              <p:cNvPr id="71" name=""/>
              <p:cNvSpPr/>
              <p:nvPr/>
            </p:nvSpPr>
            <p:spPr>
              <a:xfrm>
                <a:off x="4267080" y="1523880"/>
                <a:ext cx="1219320" cy="9907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3429000" y="2286000"/>
                <a:ext cx="91440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6144480" y="586728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Hillas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324480" y="1600200"/>
          <a:ext cx="137160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4480" y="1600200"/>
                    <a:ext cx="1371600" cy="787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09480" y="304920"/>
            <a:ext cx="6998400" cy="1524960"/>
            <a:chOff x="609480" y="304920"/>
            <a:chExt cx="6998400" cy="1524960"/>
          </a:xfrm>
        </p:grpSpPr>
        <p:graphicFrame>
          <p:nvGraphicFramePr>
            <p:cNvPr id="77" name=""/>
            <p:cNvGraphicFramePr/>
            <p:nvPr/>
          </p:nvGraphicFramePr>
          <p:xfrm>
            <a:off x="609480" y="761760"/>
            <a:ext cx="1676520" cy="106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761760"/>
                      <a:ext cx="1676520" cy="106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4062240" y="990360"/>
              <a:ext cx="354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プランクエネルギーのとき、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プランク長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2320" y="304920"/>
              <a:ext cx="26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原理その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1 (rephr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533520" y="2286000"/>
          <a:ext cx="2361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2361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048120" y="2438280"/>
            <a:ext cx="51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H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乱流があれば、必ず非熱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粒子が生ま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8288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原理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 (rephr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34340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ただし、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場・乱流があるこ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種があるこ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0" y="4724280"/>
            <a:ext cx="3657600" cy="1450440"/>
            <a:chOff x="2286000" y="4724280"/>
            <a:chExt cx="3657600" cy="1450440"/>
          </a:xfrm>
        </p:grpSpPr>
        <p:sp>
          <p:nvSpPr>
            <p:cNvPr id="87" name=""/>
            <p:cNvSpPr/>
            <p:nvPr/>
          </p:nvSpPr>
          <p:spPr>
            <a:xfrm>
              <a:off x="2286000" y="4724280"/>
              <a:ext cx="3657600" cy="838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32520" y="5715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宇宙プラズマ物理学の課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85800" y="36576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Who ordered UHECR?’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答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72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神仏のなせる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560" y="152280"/>
            <a:ext cx="55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の解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…これまでにプラズマ物理学の果たした役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62920" y="1235160"/>
            <a:ext cx="61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（電磁流体力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概念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の電磁相互作用＋統計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533520"/>
          <a:ext cx="8158320" cy="845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15832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32200" y="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氏追悼記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2200" y="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氏追悼記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533520"/>
            <a:ext cx="8458200" cy="6019560"/>
            <a:chOff x="457200" y="533520"/>
            <a:chExt cx="8458200" cy="6019560"/>
          </a:xfrm>
        </p:grpSpPr>
        <p:sp>
          <p:nvSpPr>
            <p:cNvPr id="98" name=""/>
            <p:cNvSpPr/>
            <p:nvPr/>
          </p:nvSpPr>
          <p:spPr>
            <a:xfrm>
              <a:off x="457200" y="533520"/>
              <a:ext cx="8458200" cy="601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600200" y="762120"/>
              <a:ext cx="5517720" cy="5562000"/>
              <a:chOff x="1600200" y="762120"/>
              <a:chExt cx="5517720" cy="5562000"/>
            </a:xfrm>
          </p:grpSpPr>
          <p:sp>
            <p:nvSpPr>
              <p:cNvPr id="100" name=""/>
              <p:cNvSpPr/>
              <p:nvPr/>
            </p:nvSpPr>
            <p:spPr>
              <a:xfrm>
                <a:off x="4173480" y="2793960"/>
                <a:ext cx="5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0" lang="ja-JP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00200" y="762120"/>
                <a:ext cx="5517720" cy="5562000"/>
                <a:chOff x="1600200" y="762120"/>
                <a:chExt cx="5517720" cy="5562000"/>
              </a:xfrm>
            </p:grpSpPr>
            <p:graphicFrame>
              <p:nvGraphicFramePr>
                <p:cNvPr id="102" name=""/>
                <p:cNvGraphicFramePr/>
                <p:nvPr/>
              </p:nvGraphicFramePr>
              <p:xfrm>
                <a:off x="1671840" y="762120"/>
                <a:ext cx="5446080" cy="21826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671840" y="762120"/>
                          <a:ext cx="5446080" cy="2182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4" name=""/>
                <p:cNvGraphicFramePr/>
                <p:nvPr/>
              </p:nvGraphicFramePr>
              <p:xfrm>
                <a:off x="1600200" y="3196800"/>
                <a:ext cx="5428440" cy="31273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00200" y="3196800"/>
                          <a:ext cx="5428440" cy="312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106" name=""/>
          <p:cNvSpPr/>
          <p:nvPr/>
        </p:nvSpPr>
        <p:spPr>
          <a:xfrm>
            <a:off x="1523880" y="4521240"/>
            <a:ext cx="563904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7560" y="152280"/>
            <a:ext cx="55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起源の解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…これまでにプラズマ物理学の果たした役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2920" y="1235160"/>
            <a:ext cx="61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（電磁流体力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加速の概念（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lfve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波の電磁相互作用＋統計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3000" y="2514600"/>
            <a:ext cx="3551040" cy="4343400"/>
            <a:chOff x="243000" y="2514600"/>
            <a:chExt cx="3551040" cy="4343400"/>
          </a:xfrm>
        </p:grpSpPr>
        <p:graphicFrame>
          <p:nvGraphicFramePr>
            <p:cNvPr id="110" name=""/>
            <p:cNvGraphicFramePr/>
            <p:nvPr/>
          </p:nvGraphicFramePr>
          <p:xfrm>
            <a:off x="243000" y="2743200"/>
            <a:ext cx="355104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00" y="2743200"/>
                      <a:ext cx="355104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078560" y="2514600"/>
              <a:ext cx="21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Cosmic ray energy spectr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2209680"/>
            <a:ext cx="8164080" cy="1313280"/>
            <a:chOff x="228600" y="2209680"/>
            <a:chExt cx="8164080" cy="1313280"/>
          </a:xfrm>
        </p:grpSpPr>
        <p:sp>
          <p:nvSpPr>
            <p:cNvPr id="114" name=""/>
            <p:cNvSpPr/>
            <p:nvPr/>
          </p:nvSpPr>
          <p:spPr>
            <a:xfrm>
              <a:off x="228600" y="2209680"/>
              <a:ext cx="1295640" cy="1218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5960" y="2819160"/>
              <a:ext cx="381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Parker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ほかによる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solar modulation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研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(1958: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太陽風理論に続き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年代半ばまで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600200" y="2895120"/>
              <a:ext cx="23623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230720" y="358128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末に衝撃波統計加速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）理論が完成してもよかっ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道具立ては出揃っ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。しかし、まだ期が熟していなか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4680" y="4648320"/>
            <a:ext cx="4865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理論の提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　　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xford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 Bell, Blandford&amp;Ostriker, Toptyg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547056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～ 同時進行した無衝突衝撃波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研究の急速な進展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ISE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衛星群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26160" y="62326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計算機シミュレーション技法の発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75960" y="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における衝撃波加速研究小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4840" y="609480"/>
            <a:ext cx="32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夜明け前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…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自前のデータなし、弱小計算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8800" y="990720"/>
            <a:ext cx="31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79 …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宇宙線国際会議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Kyo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本の宇宙線業界における「衝撃波加速」概念の存在の認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2280" y="1676520"/>
            <a:ext cx="34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前半までの日本の無衝突衝撃波研究者はほんの一握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ISAS:TT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羽田、星野  富山大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坂井、ほか大沢さんなど核融合系数人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宇宙線研（田無）にて、加速の勉強会数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7440" y="3200400"/>
            <a:ext cx="7113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6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ハレー彗星ミッション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SUIS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otai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つながるプラズマ計測技法の獲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彗星起源イオン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O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ピッチ角散乱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サイクロトロン共鳴の絵解き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10720" y="4191120"/>
            <a:ext cx="42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2 Geotai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衛星プラズマ・電磁場データ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世界水準を一挙に達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向井利典氏の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代初めからの努力の結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当初はロケットによる電離層イオンの観測か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6080" y="5867280"/>
            <a:ext cx="63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5  Koyama et al. 1995 Natur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論文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N1006 a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非熱的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線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5760" y="5334120"/>
            <a:ext cx="41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94.2.21 interplanetary shoc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観測…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2320" y="2743200"/>
            <a:ext cx="76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983-4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高原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+TT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： 野辺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45m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よる超新星残骸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観測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foreshock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厚み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7:20:18Z</dcterms:created>
  <dc:creator>tt</dc:creator>
  <dc:description/>
  <dc:language>en-US</dc:language>
  <cp:lastModifiedBy>tt</cp:lastModifiedBy>
  <dcterms:modified xsi:type="dcterms:W3CDTF">2008-12-24T22:06:43Z</dcterms:modified>
  <cp:revision>187</cp:revision>
  <dc:subject/>
  <dc:title>PowerPoint プレゼンテーション</dc:title>
</cp:coreProperties>
</file>