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4FB-ECF5-41D7-92D1-62A41620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0D7-298E-4BCC-A10C-DFE2C3C9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68F-F067-45D1-9ADF-5FED28BB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82A-ECF2-4413-8EFD-66DC1F38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763-ECA0-44B5-AD72-0A16DDD1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1059-07B9-4145-9A8C-092C28FB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704-F786-461D-BF99-A2D8ECEE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9F99-560E-4C72-8BA1-DF6F19A6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54B-A4D8-4F50-BEAF-2790A194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FFE-9E7A-4A08-BE0A-DA5478F7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BAE-D61E-4C75-B4B0-4297F400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562-9107-4070-A93A-14563E96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57A3-67CD-4C6B-B7CF-962D6B67B5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50800" y="5335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AM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80600" y="53352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TIC 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+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09880" y="990720"/>
            <a:ext cx="5257800" cy="3733560"/>
            <a:chOff x="3809880" y="990720"/>
            <a:chExt cx="5257800" cy="3733560"/>
          </a:xfrm>
        </p:grpSpPr>
        <p:graphicFrame>
          <p:nvGraphicFramePr>
            <p:cNvPr id="44" name=""/>
            <p:cNvGraphicFramePr/>
            <p:nvPr/>
          </p:nvGraphicFramePr>
          <p:xfrm>
            <a:off x="3809880" y="990720"/>
            <a:ext cx="5257800" cy="373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9880" y="990720"/>
                      <a:ext cx="5257800" cy="37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5246280" y="3425760"/>
              <a:ext cx="317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Times New Roman"/>
                </a:rPr>
                <a:t>10                       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Times New Roman"/>
                </a:rPr>
                <a:t>11                       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Times New Roman"/>
                </a:rPr>
                <a:t>12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04920" y="990720"/>
            <a:ext cx="3836160" cy="3276360"/>
            <a:chOff x="304920" y="990720"/>
            <a:chExt cx="3836160" cy="3276360"/>
          </a:xfrm>
        </p:grpSpPr>
        <p:graphicFrame>
          <p:nvGraphicFramePr>
            <p:cNvPr id="48" name=""/>
            <p:cNvGraphicFramePr/>
            <p:nvPr/>
          </p:nvGraphicFramePr>
          <p:xfrm>
            <a:off x="304920" y="990720"/>
            <a:ext cx="3581280" cy="3251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990720"/>
                      <a:ext cx="3581280" cy="32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" name=""/>
            <p:cNvSpPr/>
            <p:nvPr/>
          </p:nvSpPr>
          <p:spPr>
            <a:xfrm>
              <a:off x="691200" y="3898800"/>
              <a:ext cx="3449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                 10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Times New Roman"/>
                </a:rPr>
                <a:t>10                           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ja-JP" sz="1800" spc="-1" strike="noStrike" baseline="30000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531800" y="1371600"/>
            <a:ext cx="13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ja-JP" sz="2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 ex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49600" y="2743200"/>
            <a:ext cx="7608600" cy="2593440"/>
            <a:chOff x="849600" y="2743200"/>
            <a:chExt cx="7608600" cy="2593440"/>
          </a:xfrm>
        </p:grpSpPr>
        <p:sp>
          <p:nvSpPr>
            <p:cNvPr id="53" name=""/>
            <p:cNvSpPr/>
            <p:nvPr/>
          </p:nvSpPr>
          <p:spPr>
            <a:xfrm flipV="1">
              <a:off x="2286000" y="3200400"/>
              <a:ext cx="762120" cy="1752480"/>
            </a:xfrm>
            <a:prstGeom prst="line">
              <a:avLst/>
            </a:prstGeom>
            <a:ln w="28440">
              <a:solidFill>
                <a:srgbClr val="3399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362320" y="2743200"/>
              <a:ext cx="6095880" cy="2209680"/>
            </a:xfrm>
            <a:prstGeom prst="line">
              <a:avLst/>
            </a:prstGeom>
            <a:ln w="28440">
              <a:solidFill>
                <a:srgbClr val="3399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49600" y="4876920"/>
              <a:ext cx="3585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33cc33"/>
                  </a:solidFill>
                  <a:latin typeface="Times New Roman"/>
                </a:rPr>
                <a:t>Level of normal GCR e</a:t>
              </a:r>
              <a:r>
                <a:rPr b="1" lang="ja-JP" sz="2400" spc="-1" strike="noStrike" baseline="30000">
                  <a:solidFill>
                    <a:srgbClr val="33cc33"/>
                  </a:solidFill>
                  <a:latin typeface="Times New Roman"/>
                </a:rPr>
                <a:t>+</a:t>
              </a:r>
              <a:r>
                <a:rPr b="1" lang="ja-JP" sz="2400" spc="-1" strike="noStrike">
                  <a:solidFill>
                    <a:srgbClr val="33cc33"/>
                  </a:solidFill>
                  <a:latin typeface="Times New Roman"/>
                </a:rPr>
                <a:t>e</a:t>
              </a:r>
              <a:r>
                <a:rPr b="1" lang="ja-JP" sz="2400" spc="-1" strike="noStrike" baseline="30000">
                  <a:solidFill>
                    <a:srgbClr val="33cc33"/>
                  </a:solidFill>
                  <a:latin typeface="Times New Roman"/>
                </a:rPr>
                <a:t>-</a:t>
              </a:r>
              <a:r>
                <a:rPr b="1" lang="ja-JP" sz="2400" spc="-1" strike="noStrike">
                  <a:solidFill>
                    <a:srgbClr val="33cc33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925560" y="30481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/(e +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76800" y="5791320"/>
            <a:ext cx="47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数百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Ge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見られる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ump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起源は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か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04920" y="1066680"/>
          <a:ext cx="3657600" cy="26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3657600" cy="26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862560" y="533520"/>
            <a:ext cx="24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105520" y="0"/>
          <a:ext cx="378756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0"/>
                    <a:ext cx="3787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486400" y="4295880"/>
          <a:ext cx="3276720" cy="25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4295880"/>
                    <a:ext cx="327672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79800" y="0"/>
            <a:ext cx="37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oskalenko &amp; Strong (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8760" y="3962520"/>
            <a:ext cx="353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rimary GCR e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レベルは既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rimary GCR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における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ja-JP" sz="20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決定の問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10280" y="3987720"/>
            <a:ext cx="642240" cy="507960"/>
            <a:chOff x="7010280" y="3987720"/>
            <a:chExt cx="642240" cy="507960"/>
          </a:xfrm>
        </p:grpSpPr>
        <p:sp>
          <p:nvSpPr>
            <p:cNvPr id="68" name=""/>
            <p:cNvSpPr/>
            <p:nvPr/>
          </p:nvSpPr>
          <p:spPr>
            <a:xfrm>
              <a:off x="7010280" y="403848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88920" y="3987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80880" y="380880"/>
            <a:ext cx="8305920" cy="2394720"/>
            <a:chOff x="380880" y="380880"/>
            <a:chExt cx="8305920" cy="2394720"/>
          </a:xfrm>
        </p:grpSpPr>
        <p:sp>
          <p:nvSpPr>
            <p:cNvPr id="71" name=""/>
            <p:cNvSpPr/>
            <p:nvPr/>
          </p:nvSpPr>
          <p:spPr>
            <a:xfrm>
              <a:off x="4114800" y="190476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41360" y="144756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GALPR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86200" y="24382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0000"/>
                  </a:solidFill>
                  <a:latin typeface="Times New Roman"/>
                </a:rPr>
                <a:t>銀河系内空間での拡散・移流、再加速</a:t>
              </a:r>
              <a:r>
                <a:rPr b="0" lang="ja-JP" sz="1600" spc="-1" strike="noStrike">
                  <a:solidFill>
                    <a:srgbClr val="ff0000"/>
                  </a:solidFill>
                  <a:latin typeface="Times New Roman"/>
                </a:rPr>
                <a:t>et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" name=""/>
            <p:cNvGraphicFramePr/>
            <p:nvPr/>
          </p:nvGraphicFramePr>
          <p:xfrm>
            <a:off x="380880" y="380880"/>
            <a:ext cx="8305920" cy="716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880" y="380880"/>
                      <a:ext cx="8305920" cy="71604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76" name=""/>
          <p:cNvSpPr/>
          <p:nvPr/>
        </p:nvSpPr>
        <p:spPr>
          <a:xfrm>
            <a:off x="4278240" y="518148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/(e +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024200" y="4572000"/>
            <a:ext cx="3700080" cy="1999440"/>
            <a:chOff x="1024200" y="4572000"/>
            <a:chExt cx="3700080" cy="1999440"/>
          </a:xfrm>
        </p:grpSpPr>
        <p:sp>
          <p:nvSpPr>
            <p:cNvPr id="78" name=""/>
            <p:cNvSpPr/>
            <p:nvPr/>
          </p:nvSpPr>
          <p:spPr>
            <a:xfrm>
              <a:off x="2743200" y="4572000"/>
              <a:ext cx="19810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438280" y="4952880"/>
              <a:ext cx="914400" cy="762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24200" y="5562720"/>
              <a:ext cx="297576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0000"/>
                  </a:solidFill>
                  <a:latin typeface="Times New Roman"/>
                </a:rPr>
                <a:t>未解決の問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0000"/>
                  </a:solidFill>
                  <a:latin typeface="Times New Roman"/>
                </a:rPr>
                <a:t>　→</a:t>
              </a:r>
              <a:r>
                <a:rPr b="0" lang="ja-JP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ja-JP" sz="2000" spc="-1" strike="noStrike">
                  <a:solidFill>
                    <a:srgbClr val="ff0000"/>
                  </a:solidFill>
                  <a:latin typeface="Times New Roman"/>
                </a:rPr>
                <a:t>加速解明に有効であっ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0000"/>
                  </a:solidFill>
                  <a:latin typeface="Times New Roman"/>
                </a:rPr>
                <a:t>　　太陽風内での観測が電子ではま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765440" y="281952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CR p + 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endshow"/>
          </p:cNvPr>
          <p:cNvSpPr/>
          <p:nvPr/>
        </p:nvSpPr>
        <p:spPr>
          <a:xfrm>
            <a:off x="4724280" y="6553080"/>
            <a:ext cx="838440" cy="304920"/>
          </a:xfrm>
          <a:custGeom>
            <a:avLst/>
            <a:gdLst>
              <a:gd name="textAreaLeft" fmla="*/ 19440 w 838440"/>
              <a:gd name="textAreaRight" fmla="*/ 819000 w 838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49" h="21600">
                <a:moveTo>
                  <a:pt x="0" y="0"/>
                </a:moveTo>
                <a:lnTo>
                  <a:pt x="59349" y="0"/>
                </a:lnTo>
                <a:lnTo>
                  <a:pt x="59349" y="21600"/>
                </a:lnTo>
                <a:lnTo>
                  <a:pt x="0" y="21600"/>
                </a:lnTo>
                <a:close/>
              </a:path>
              <a:path fill="lightenLess" w="59349" h="21600">
                <a:moveTo>
                  <a:pt x="0" y="0"/>
                </a:moveTo>
                <a:lnTo>
                  <a:pt x="59349" y="0"/>
                </a:lnTo>
                <a:lnTo>
                  <a:pt x="57949" y="1400"/>
                </a:lnTo>
                <a:lnTo>
                  <a:pt x="1400" y="1400"/>
                </a:lnTo>
                <a:close/>
              </a:path>
              <a:path fill="darken" w="59349" h="21600">
                <a:moveTo>
                  <a:pt x="59349" y="0"/>
                </a:moveTo>
                <a:lnTo>
                  <a:pt x="59349" y="21600"/>
                </a:lnTo>
                <a:lnTo>
                  <a:pt x="57949" y="20200"/>
                </a:lnTo>
                <a:lnTo>
                  <a:pt x="57949" y="1400"/>
                </a:lnTo>
                <a:close/>
              </a:path>
              <a:path fill="darkenLess" w="59349" h="21600">
                <a:moveTo>
                  <a:pt x="59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9" y="20200"/>
                </a:lnTo>
                <a:close/>
              </a:path>
              <a:path fill="lighten" w="59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49" h="21600">
                <a:moveTo>
                  <a:pt x="29675" y="3837"/>
                </a:moveTo>
                <a:lnTo>
                  <a:pt x="32251" y="6448"/>
                </a:lnTo>
                <a:lnTo>
                  <a:pt x="32251" y="4707"/>
                </a:lnTo>
                <a:lnTo>
                  <a:pt x="34026" y="4707"/>
                </a:lnTo>
                <a:lnTo>
                  <a:pt x="34026" y="8224"/>
                </a:lnTo>
                <a:lnTo>
                  <a:pt x="36637" y="10800"/>
                </a:lnTo>
                <a:lnTo>
                  <a:pt x="34984" y="10800"/>
                </a:lnTo>
                <a:lnTo>
                  <a:pt x="34984" y="17989"/>
                </a:lnTo>
                <a:lnTo>
                  <a:pt x="24365" y="17989"/>
                </a:lnTo>
                <a:lnTo>
                  <a:pt x="24365" y="10800"/>
                </a:lnTo>
                <a:lnTo>
                  <a:pt x="22712" y="10800"/>
                </a:lnTo>
                <a:close/>
              </a:path>
              <a:path fill="darkenLess" w="59349" h="21600">
                <a:moveTo>
                  <a:pt x="32251" y="6448"/>
                </a:moveTo>
                <a:lnTo>
                  <a:pt x="32251" y="4707"/>
                </a:lnTo>
                <a:lnTo>
                  <a:pt x="34026" y="4707"/>
                </a:lnTo>
                <a:lnTo>
                  <a:pt x="34026" y="8224"/>
                </a:lnTo>
                <a:close/>
              </a:path>
              <a:path fill="darkenLess" w="59349" h="21600">
                <a:moveTo>
                  <a:pt x="28752" y="14299"/>
                </a:moveTo>
                <a:lnTo>
                  <a:pt x="30597" y="14299"/>
                </a:lnTo>
                <a:lnTo>
                  <a:pt x="30597" y="17989"/>
                </a:lnTo>
                <a:lnTo>
                  <a:pt x="34984" y="17989"/>
                </a:lnTo>
                <a:lnTo>
                  <a:pt x="34984" y="10800"/>
                </a:lnTo>
                <a:lnTo>
                  <a:pt x="24365" y="10800"/>
                </a:lnTo>
                <a:lnTo>
                  <a:pt x="24365" y="17989"/>
                </a:lnTo>
                <a:lnTo>
                  <a:pt x="28752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21:38:41Z</dcterms:created>
  <dc:creator>tt</dc:creator>
  <dc:description/>
  <dc:language>en-US</dc:language>
  <cp:lastModifiedBy>tt</cp:lastModifiedBy>
  <dcterms:modified xsi:type="dcterms:W3CDTF">2008-12-24T00:06:48Z</dcterms:modified>
  <cp:revision>3</cp:revision>
  <dc:subject/>
  <dc:title>PowerPoint プレゼンテーション</dc:title>
</cp:coreProperties>
</file>