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704-1993-473E-8559-962F91A3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4B7-6D21-4FB3-8B45-09B42DF5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F26-DD0E-47E7-9A14-EC53D136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3F0-2389-43E9-8622-3869A501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6B7-0EE9-44E6-84CA-B64147B8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66B-D6FF-454E-B70F-679E9ACF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89B3-7616-46DF-8377-58A2974E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643-3CE3-49AC-8A82-56DD12D7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C3C0-B513-46B8-94F1-3BD247A5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AAF-75D6-4463-AB51-2A84F94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D0E-CBF0-45BC-9E08-7754D674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229-83F4-412C-B676-B4C32CE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B8AB-3D2B-4447-B659-146D929738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宇宙線空気シャワー・レーダー観測の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R/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4479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寺澤敏夫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東大宇宙線研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ja-JP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eV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達する超高エネルギー宇宙線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UHECR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起源は現在の宇宙線物理学の最大の謎である。次世代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HE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観測法として電波的手段が注目されており、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UHEC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作る巨大空気シャワーのレーダー検出法はそ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つである。セミナーではレーダー法について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/D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の結果をお話しした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6560" y="15228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35360" y="4191120"/>
            <a:ext cx="52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共同研究者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中村卓司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極地研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・佐川宏行氏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宇宙線研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ほ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1714680" y="990720"/>
            <a:ext cx="5715000" cy="5715000"/>
            <a:chOff x="1714680" y="990720"/>
            <a:chExt cx="5715000" cy="5715000"/>
          </a:xfrm>
        </p:grpSpPr>
        <p:grpSp>
          <p:nvGrpSpPr>
            <p:cNvPr id="137" name=""/>
            <p:cNvGrpSpPr/>
            <p:nvPr/>
          </p:nvGrpSpPr>
          <p:grpSpPr>
            <a:xfrm>
              <a:off x="1714680" y="990720"/>
              <a:ext cx="5715000" cy="5715000"/>
              <a:chOff x="1714680" y="990720"/>
              <a:chExt cx="5715000" cy="57150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714680" y="990720"/>
                <a:ext cx="5715000" cy="5715000"/>
                <a:chOff x="1714680" y="990720"/>
                <a:chExt cx="5715000" cy="5715000"/>
              </a:xfrm>
            </p:grpSpPr>
            <p:pic>
              <p:nvPicPr>
                <p:cNvPr id="139" name="MUsabaeToyoshinaMap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14680" y="990720"/>
                  <a:ext cx="5715000" cy="571500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140" name=""/>
                <p:cNvGraphicFramePr/>
                <p:nvPr/>
              </p:nvGraphicFramePr>
              <p:xfrm>
                <a:off x="4051440" y="3103560"/>
                <a:ext cx="760320" cy="98568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41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051440" y="3103560"/>
                          <a:ext cx="760320" cy="985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42" name=""/>
              <p:cNvSpPr/>
              <p:nvPr/>
            </p:nvSpPr>
            <p:spPr>
              <a:xfrm>
                <a:off x="5384880" y="4648320"/>
                <a:ext cx="15228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2590920" y="2836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57640" y="4914720"/>
              <a:ext cx="17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受信点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秦野市</a:t>
              </a:r>
              <a:r>
                <a:rPr b="0" lang="ja-JP" sz="24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070360" y="304920"/>
            <a:ext cx="52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009/7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末～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初旬   学生実習による流星電波エコー観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116520" y="2573280"/>
            <a:ext cx="1341360" cy="1190520"/>
            <a:chOff x="3116520" y="2573280"/>
            <a:chExt cx="1341360" cy="1190520"/>
          </a:xfrm>
        </p:grpSpPr>
        <p:sp>
          <p:nvSpPr>
            <p:cNvPr id="147" name=""/>
            <p:cNvSpPr/>
            <p:nvPr/>
          </p:nvSpPr>
          <p:spPr>
            <a:xfrm>
              <a:off x="3390840" y="2997360"/>
              <a:ext cx="1028880" cy="64260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3063960"/>
              <a:ext cx="762120" cy="45720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9000" y="3121200"/>
              <a:ext cx="1028880" cy="64260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6520" y="2573280"/>
              <a:ext cx="12276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送信点は</a:t>
              </a: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箇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lang="ja-JP" sz="1200" spc="-1" strike="noStrike">
                  <a:solidFill>
                    <a:srgbClr val="3333cc"/>
                  </a:solidFill>
                  <a:latin typeface="Times New Roman"/>
                </a:rPr>
                <a:t>大町、池田、豊科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248520" y="1981080"/>
            <a:ext cx="2111040" cy="1465560"/>
            <a:chOff x="6248520" y="1981080"/>
            <a:chExt cx="2111040" cy="1465560"/>
          </a:xfrm>
        </p:grpSpPr>
        <p:sp>
          <p:nvSpPr>
            <p:cNvPr id="152" name=""/>
            <p:cNvSpPr/>
            <p:nvPr/>
          </p:nvSpPr>
          <p:spPr>
            <a:xfrm>
              <a:off x="7223400" y="1981080"/>
              <a:ext cx="113616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受信機で再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5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90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75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の可聴音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819520"/>
              <a:ext cx="761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742640" y="1481040"/>
            <a:ext cx="1738440" cy="2014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長野の３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矢口氏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それぞ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53.90030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53.90015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53.90000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で送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HADy_08020430" descr=""/>
          <p:cNvPicPr/>
          <p:nvPr/>
        </p:nvPicPr>
        <p:blipFill>
          <a:blip r:embed="rId1"/>
          <a:stretch/>
        </p:blipFill>
        <p:spPr>
          <a:xfrm>
            <a:off x="692280" y="914400"/>
            <a:ext cx="718956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920880" y="5715000"/>
            <a:ext cx="6858000" cy="536040"/>
            <a:chOff x="920880" y="5715000"/>
            <a:chExt cx="6858000" cy="536040"/>
          </a:xfrm>
        </p:grpSpPr>
        <p:sp>
          <p:nvSpPr>
            <p:cNvPr id="157" name=""/>
            <p:cNvSpPr/>
            <p:nvPr/>
          </p:nvSpPr>
          <p:spPr>
            <a:xfrm>
              <a:off x="920880" y="5715000"/>
              <a:ext cx="685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40680" y="5791320"/>
              <a:ext cx="164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時間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(10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分間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911240" y="2057400"/>
            <a:ext cx="374760" cy="2666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135440" y="2362320"/>
            <a:ext cx="2819520" cy="2103840"/>
            <a:chOff x="1135440" y="2362320"/>
            <a:chExt cx="2819520" cy="2103840"/>
          </a:xfrm>
        </p:grpSpPr>
        <p:sp>
          <p:nvSpPr>
            <p:cNvPr id="161" name=""/>
            <p:cNvSpPr/>
            <p:nvPr/>
          </p:nvSpPr>
          <p:spPr>
            <a:xfrm>
              <a:off x="3048840" y="2514600"/>
              <a:ext cx="906120" cy="19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105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90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0" lang="ja-JP" sz="1800" spc="-1" strike="noStrike">
                  <a:solidFill>
                    <a:srgbClr val="ff0000"/>
                  </a:solidFill>
                  <a:latin typeface="Times New Roman"/>
                </a:rPr>
                <a:t>750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135440" y="2362320"/>
              <a:ext cx="592200" cy="1982520"/>
              <a:chOff x="1135440" y="2362320"/>
              <a:chExt cx="592200" cy="1982520"/>
            </a:xfrm>
          </p:grpSpPr>
          <p:sp>
            <p:nvSpPr>
              <p:cNvPr id="163" name=""/>
              <p:cNvSpPr/>
              <p:nvPr/>
            </p:nvSpPr>
            <p:spPr>
              <a:xfrm>
                <a:off x="1166040" y="236232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大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191240" y="3200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池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35440" y="397656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安曇野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2362320" y="1752480"/>
            <a:ext cx="6324480" cy="3608640"/>
            <a:chOff x="2362320" y="1752480"/>
            <a:chExt cx="6324480" cy="3608640"/>
          </a:xfrm>
        </p:grpSpPr>
        <p:grpSp>
          <p:nvGrpSpPr>
            <p:cNvPr id="167" name=""/>
            <p:cNvGrpSpPr/>
            <p:nvPr/>
          </p:nvGrpSpPr>
          <p:grpSpPr>
            <a:xfrm>
              <a:off x="2362320" y="1752480"/>
              <a:ext cx="6324480" cy="3608640"/>
              <a:chOff x="2362320" y="1752480"/>
              <a:chExt cx="6324480" cy="3608640"/>
            </a:xfrm>
          </p:grpSpPr>
          <p:sp>
            <p:nvSpPr>
              <p:cNvPr id="168" name=""/>
              <p:cNvSpPr/>
              <p:nvPr/>
            </p:nvSpPr>
            <p:spPr>
              <a:xfrm flipH="1">
                <a:off x="2362320" y="3343320"/>
                <a:ext cx="536400" cy="9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2830680" y="1752480"/>
                <a:ext cx="5856120" cy="3608640"/>
                <a:chOff x="2830680" y="1752480"/>
                <a:chExt cx="5856120" cy="3608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830680" y="1752480"/>
                  <a:ext cx="5856120" cy="3608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71" name=""/>
                <p:cNvGraphicFramePr/>
                <p:nvPr/>
              </p:nvGraphicFramePr>
              <p:xfrm>
                <a:off x="3920040" y="4748040"/>
                <a:ext cx="3639960" cy="5472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72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3920040" y="4748040"/>
                          <a:ext cx="3639960" cy="547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173" name=""/>
                <p:cNvGraphicFramePr/>
                <p:nvPr/>
              </p:nvGraphicFramePr>
              <p:xfrm>
                <a:off x="2898720" y="1820160"/>
                <a:ext cx="5651280" cy="290232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174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2898720" y="1820160"/>
                          <a:ext cx="5651280" cy="2902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175" name=""/>
            <p:cNvGrpSpPr/>
            <p:nvPr/>
          </p:nvGrpSpPr>
          <p:grpSpPr>
            <a:xfrm>
              <a:off x="3657600" y="1981080"/>
              <a:ext cx="4724280" cy="536040"/>
              <a:chOff x="3657600" y="1981080"/>
              <a:chExt cx="4724280" cy="536040"/>
            </a:xfrm>
          </p:grpSpPr>
          <p:sp>
            <p:nvSpPr>
              <p:cNvPr id="176" name=""/>
              <p:cNvSpPr/>
              <p:nvPr/>
            </p:nvSpPr>
            <p:spPr>
              <a:xfrm>
                <a:off x="3657600" y="1981080"/>
                <a:ext cx="4724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274440" y="2057400"/>
                <a:ext cx="588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1" lang="ja-JP" sz="2400" spc="-1" strike="noStrike">
                    <a:solidFill>
                      <a:srgbClr val="000000"/>
                    </a:solidFill>
                    <a:latin typeface="Times New Roman"/>
                  </a:rPr>
                  <a:t>秒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697200" y="2316240"/>
              <a:ext cx="1159560" cy="2049480"/>
              <a:chOff x="3697200" y="2316240"/>
              <a:chExt cx="1159560" cy="2049480"/>
            </a:xfrm>
          </p:grpSpPr>
          <p:sp>
            <p:nvSpPr>
              <p:cNvPr id="179" name=""/>
              <p:cNvSpPr/>
              <p:nvPr/>
            </p:nvSpPr>
            <p:spPr>
              <a:xfrm>
                <a:off x="3720600" y="2316240"/>
                <a:ext cx="113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大町 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1050H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10520" y="3139920"/>
                <a:ext cx="107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池田 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900H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97200" y="3997440"/>
                <a:ext cx="115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ff0000"/>
                    </a:solidFill>
                    <a:latin typeface="Times New Roman"/>
                  </a:rPr>
                  <a:t>安曇野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ja-JP" sz="1400" spc="-1" strike="noStrike">
                    <a:solidFill>
                      <a:srgbClr val="ff0000"/>
                    </a:solidFill>
                    <a:latin typeface="Times New Roman"/>
                  </a:rPr>
                  <a:t>750H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1524960" y="3808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秦野データのダイナミックスペクトル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0" y="1066680"/>
            <a:ext cx="549360" cy="4267440"/>
            <a:chOff x="0" y="1066680"/>
            <a:chExt cx="549360" cy="4267440"/>
          </a:xfrm>
        </p:grpSpPr>
        <p:sp>
          <p:nvSpPr>
            <p:cNvPr id="184" name=""/>
            <p:cNvSpPr/>
            <p:nvPr/>
          </p:nvSpPr>
          <p:spPr>
            <a:xfrm flipV="1">
              <a:off x="533520" y="1066680"/>
              <a:ext cx="0" cy="426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2133720"/>
              <a:ext cx="54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周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14680" y="1066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191120" y="5778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流星の位置は不定。それを決めるためにはあと３組の時刻データが必要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38480" y="2819520"/>
            <a:ext cx="5105520" cy="1676160"/>
            <a:chOff x="4038480" y="2819520"/>
            <a:chExt cx="5105520" cy="1676160"/>
          </a:xfrm>
        </p:grpSpPr>
        <p:sp>
          <p:nvSpPr>
            <p:cNvPr id="190" name=""/>
            <p:cNvSpPr/>
            <p:nvPr/>
          </p:nvSpPr>
          <p:spPr>
            <a:xfrm flipH="1">
              <a:off x="4952880" y="3352680"/>
              <a:ext cx="990720" cy="1143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38480" y="2819520"/>
              <a:ext cx="51055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推定した飛翔方向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時刻計測誤差を考慮し、誤差の範囲でパラメタを振った結果を複数の矢印で示す。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951080" y="120600"/>
            <a:ext cx="270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この観測例について決めた流星飛翔方向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76320" y="25560"/>
            <a:ext cx="4038480" cy="2489040"/>
            <a:chOff x="76320" y="25560"/>
            <a:chExt cx="4038480" cy="2489040"/>
          </a:xfrm>
        </p:grpSpPr>
        <p:grpSp>
          <p:nvGrpSpPr>
            <p:cNvPr id="194" name=""/>
            <p:cNvGrpSpPr/>
            <p:nvPr/>
          </p:nvGrpSpPr>
          <p:grpSpPr>
            <a:xfrm>
              <a:off x="76320" y="25560"/>
              <a:ext cx="4038480" cy="2489040"/>
              <a:chOff x="76320" y="25560"/>
              <a:chExt cx="4038480" cy="2489040"/>
            </a:xfrm>
          </p:grpSpPr>
          <p:sp>
            <p:nvSpPr>
              <p:cNvPr id="195" name=""/>
              <p:cNvSpPr/>
              <p:nvPr/>
            </p:nvSpPr>
            <p:spPr>
              <a:xfrm>
                <a:off x="76320" y="25560"/>
                <a:ext cx="4038480" cy="2489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96" name=""/>
              <p:cNvGraphicFramePr/>
              <p:nvPr/>
            </p:nvGraphicFramePr>
            <p:xfrm>
              <a:off x="827640" y="2091960"/>
              <a:ext cx="2509920" cy="3776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827640" y="2091960"/>
                        <a:ext cx="2509920" cy="37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98" name=""/>
              <p:cNvGraphicFramePr/>
              <p:nvPr/>
            </p:nvGraphicFramePr>
            <p:xfrm>
              <a:off x="123120" y="72360"/>
              <a:ext cx="3897360" cy="200196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99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23120" y="72360"/>
                        <a:ext cx="3897360" cy="2001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00" name=""/>
            <p:cNvSpPr/>
            <p:nvPr/>
          </p:nvSpPr>
          <p:spPr>
            <a:xfrm>
              <a:off x="646200" y="254160"/>
              <a:ext cx="3259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47640" y="381240"/>
              <a:ext cx="38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</a:rPr>
                <a:t>秒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668520" y="406440"/>
              <a:ext cx="943200" cy="1447200"/>
              <a:chOff x="668520" y="406440"/>
              <a:chExt cx="943200" cy="144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690480" y="406440"/>
                <a:ext cx="921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大町 </a:t>
                </a: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1050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7880" y="974520"/>
                <a:ext cx="884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池田  </a:t>
                </a: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900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8520" y="1577160"/>
                <a:ext cx="93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安曇野 </a:t>
                </a:r>
                <a:r>
                  <a:rPr b="0" lang="ja-JP" sz="1200" spc="-1" strike="noStrike">
                    <a:solidFill>
                      <a:srgbClr val="ff0000"/>
                    </a:solidFill>
                    <a:latin typeface="Times New Roman"/>
                  </a:rPr>
                  <a:t>750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echo_20090727_2218_28_001" descr=""/>
          <p:cNvPicPr/>
          <p:nvPr/>
        </p:nvPicPr>
        <p:blipFill>
          <a:blip r:embed="rId1"/>
          <a:stretch/>
        </p:blipFill>
        <p:spPr>
          <a:xfrm>
            <a:off x="1714680" y="5716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478160" y="0"/>
            <a:ext cx="4773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別の実習例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時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分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秒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J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6200" y="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実効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パ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988720" y="3722400"/>
            <a:ext cx="3899520" cy="1679040"/>
            <a:chOff x="2988720" y="3722400"/>
            <a:chExt cx="3899520" cy="1679040"/>
          </a:xfrm>
        </p:grpSpPr>
        <p:sp>
          <p:nvSpPr>
            <p:cNvPr id="210" name=""/>
            <p:cNvSpPr/>
            <p:nvPr/>
          </p:nvSpPr>
          <p:spPr>
            <a:xfrm flipV="1">
              <a:off x="4419360" y="3722400"/>
              <a:ext cx="380880" cy="837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88720" y="4484520"/>
              <a:ext cx="389952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流星：長野県上空高度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100km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　　　　速度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42km/s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、放射点赤経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時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分、赤緯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-15.4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　　　　みずがめ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群に属する流星と見られ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8920" y="3886200"/>
            <a:ext cx="3672360" cy="2498400"/>
            <a:chOff x="268920" y="3886200"/>
            <a:chExt cx="3672360" cy="2498400"/>
          </a:xfrm>
        </p:grpSpPr>
        <p:grpSp>
          <p:nvGrpSpPr>
            <p:cNvPr id="213" name=""/>
            <p:cNvGrpSpPr/>
            <p:nvPr/>
          </p:nvGrpSpPr>
          <p:grpSpPr>
            <a:xfrm>
              <a:off x="268920" y="5109840"/>
              <a:ext cx="2084760" cy="1274760"/>
              <a:chOff x="268920" y="5109840"/>
              <a:chExt cx="2084760" cy="1274760"/>
            </a:xfrm>
          </p:grpSpPr>
          <p:sp>
            <p:nvSpPr>
              <p:cNvPr id="214" name=""/>
              <p:cNvSpPr/>
              <p:nvPr/>
            </p:nvSpPr>
            <p:spPr>
              <a:xfrm>
                <a:off x="268920" y="5742000"/>
                <a:ext cx="2084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800" spc="-1" strike="noStrike">
                    <a:solidFill>
                      <a:srgbClr val="000000"/>
                    </a:solidFill>
                    <a:latin typeface="Times New Roman"/>
                  </a:rPr>
                  <a:t>位置決定残差の等高線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ja-JP" sz="1800" spc="-1" strike="noStrike">
                    <a:solidFill>
                      <a:srgbClr val="ff0000"/>
                    </a:solidFill>
                    <a:latin typeface="Times New Roman"/>
                  </a:rPr>
                  <a:t>赤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1" lang="ja-JP" sz="1800" spc="-1" strike="noStrike">
                    <a:solidFill>
                      <a:srgbClr val="ffff00"/>
                    </a:solidFill>
                    <a:latin typeface="Times New Roman"/>
                  </a:rPr>
                  <a:t>黄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1" lang="ja-JP" sz="1800" spc="-1" strike="noStrike">
                    <a:solidFill>
                      <a:srgbClr val="33ccff"/>
                    </a:solidFill>
                    <a:latin typeface="Times New Roman"/>
                  </a:rPr>
                  <a:t>水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1" lang="ja-JP" sz="1800" spc="-1" strike="noStrike">
                    <a:solidFill>
                      <a:srgbClr val="0000ff"/>
                    </a:solidFill>
                    <a:latin typeface="Times New Roman"/>
                  </a:rPr>
                  <a:t>青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&gt;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黒</a:t>
                </a: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939600" y="5109840"/>
                <a:ext cx="1007640" cy="64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3608280" y="38862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</a:rPr>
                <a:t>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52280" y="2743200"/>
            <a:ext cx="23623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観測された時刻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モデルによる時刻の差の自乗和を最小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199320" y="2209680"/>
            <a:ext cx="1258560" cy="1436760"/>
            <a:chOff x="3199320" y="2209680"/>
            <a:chExt cx="1258560" cy="1436760"/>
          </a:xfrm>
        </p:grpSpPr>
        <p:sp>
          <p:nvSpPr>
            <p:cNvPr id="219" name=""/>
            <p:cNvSpPr/>
            <p:nvPr/>
          </p:nvSpPr>
          <p:spPr>
            <a:xfrm flipH="1">
              <a:off x="3228480" y="2579760"/>
              <a:ext cx="47880" cy="106668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90840" y="2633760"/>
              <a:ext cx="1028880" cy="6429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57600" y="2700360"/>
              <a:ext cx="762120" cy="45720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9000" y="2757600"/>
              <a:ext cx="1028880" cy="642960"/>
            </a:xfrm>
            <a:prstGeom prst="line">
              <a:avLst/>
            </a:prstGeom>
            <a:ln w="19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99320" y="2209680"/>
              <a:ext cx="12276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送信点は</a:t>
              </a: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ja-JP" sz="1800" spc="-1" strike="noStrike">
                  <a:solidFill>
                    <a:srgbClr val="3333cc"/>
                  </a:solidFill>
                  <a:latin typeface="Times New Roman"/>
                </a:rPr>
                <a:t>箇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lang="ja-JP" sz="1200" spc="-1" strike="noStrike">
                  <a:solidFill>
                    <a:srgbClr val="3333cc"/>
                  </a:solidFill>
                  <a:latin typeface="Times New Roman"/>
                </a:rPr>
                <a:t>鯖江、大町、池田、豊科）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511680" y="40384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受信点９箇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160" y="640080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Times New Roman"/>
              </a:rPr>
              <a:t>エコーの最初の検出時のフットプリント形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486400" y="61718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05120" y="152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0880" y="609480"/>
            <a:ext cx="8229600" cy="5833800"/>
            <a:chOff x="380880" y="609480"/>
            <a:chExt cx="8229600" cy="5833800"/>
          </a:xfrm>
        </p:grpSpPr>
        <p:grpSp>
          <p:nvGrpSpPr>
            <p:cNvPr id="229" name=""/>
            <p:cNvGrpSpPr/>
            <p:nvPr/>
          </p:nvGrpSpPr>
          <p:grpSpPr>
            <a:xfrm>
              <a:off x="380880" y="2819520"/>
              <a:ext cx="4033800" cy="3623760"/>
              <a:chOff x="380880" y="2819520"/>
              <a:chExt cx="4033800" cy="36237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380880" y="3274920"/>
                <a:ext cx="4033800" cy="3168360"/>
                <a:chOff x="380880" y="3274920"/>
                <a:chExt cx="4033800" cy="31683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380880" y="3274920"/>
                  <a:ext cx="4033800" cy="3168360"/>
                  <a:chOff x="380880" y="3274920"/>
                  <a:chExt cx="4033800" cy="3168360"/>
                </a:xfrm>
              </p:grpSpPr>
              <p:graphicFrame>
                <p:nvGraphicFramePr>
                  <p:cNvPr id="232" name=""/>
                  <p:cNvGraphicFramePr/>
                  <p:nvPr/>
                </p:nvGraphicFramePr>
                <p:xfrm>
                  <a:off x="380880" y="3274920"/>
                  <a:ext cx="4033800" cy="31683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3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380880" y="3274920"/>
                            <a:ext cx="4033800" cy="3168360"/>
                          </a:xfrm>
                          <a:prstGeom prst="rect">
                            <a:avLst/>
                          </a:prstGeom>
                          <a:ln w="9360">
                            <a:solidFill>
                              <a:srgbClr val="ff0000"/>
                            </a:solidFill>
                            <a:miter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34" name=""/>
                  <p:cNvSpPr/>
                  <p:nvPr/>
                </p:nvSpPr>
                <p:spPr>
                  <a:xfrm>
                    <a:off x="2751480" y="3345840"/>
                    <a:ext cx="13831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高度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~20km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5" name=""/>
                <p:cNvSpPr/>
                <p:nvPr/>
              </p:nvSpPr>
              <p:spPr>
                <a:xfrm>
                  <a:off x="562680" y="6011640"/>
                  <a:ext cx="1137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宇宙線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594720" y="2819520"/>
                <a:ext cx="114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0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685800" y="2133720"/>
              <a:ext cx="762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複数の送受信点で観測し時間差を計測すれば場所と方向が決まる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筈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)←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流星観測で実用化されている方法の応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800" y="60948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の観測は宇宙線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EAS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エコーの存在証明が目的。次の段階をどうするか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5800" y="137160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→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MU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単体では、エコーの位置を決めうるだけで、宇宙線の到来方向は判ら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68400" y="3733920"/>
              <a:ext cx="255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電波の経路による到着時刻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到来方向の決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24280" y="5410080"/>
              <a:ext cx="388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流星電波観測の学生実習</a:t>
              </a: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Times New Roman"/>
                </a:rPr>
                <a:t>この原理の体験をさせ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31040" y="838080"/>
            <a:ext cx="52783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目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. Introductio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さまざまな電波観測手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の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京大信楽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U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概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エコー候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同定と強度推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と制動輻射受信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付録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学生実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駒場 全学体験セミナー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6560" y="15228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33520" y="4071960"/>
            <a:ext cx="8153280" cy="1719360"/>
            <a:chOff x="533520" y="4071960"/>
            <a:chExt cx="8153280" cy="1719360"/>
          </a:xfrm>
        </p:grpSpPr>
        <p:sp>
          <p:nvSpPr>
            <p:cNvPr id="245" name=""/>
            <p:cNvSpPr/>
            <p:nvPr/>
          </p:nvSpPr>
          <p:spPr>
            <a:xfrm>
              <a:off x="533520" y="579132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05920" y="4071960"/>
              <a:ext cx="0" cy="167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20400000">
              <a:off x="7086600" y="4529160"/>
              <a:ext cx="97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on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31040" y="838080"/>
            <a:ext cx="527832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目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1. Introduction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のさまざまな電波観測手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の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京大信楽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MU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概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宇宙線エコー候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その同定と強度推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レーダー法と制動輻射受信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録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レーダー法学生実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駒場 全学体験セミナー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6560" y="152280"/>
            <a:ext cx="162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23880" y="533520"/>
            <a:ext cx="4516920" cy="3168360"/>
            <a:chOff x="1523880" y="533520"/>
            <a:chExt cx="4516920" cy="3168360"/>
          </a:xfrm>
        </p:grpSpPr>
        <p:grpSp>
          <p:nvGrpSpPr>
            <p:cNvPr id="49" name=""/>
            <p:cNvGrpSpPr/>
            <p:nvPr/>
          </p:nvGrpSpPr>
          <p:grpSpPr>
            <a:xfrm>
              <a:off x="1523880" y="533520"/>
              <a:ext cx="4516920" cy="3168360"/>
              <a:chOff x="1523880" y="533520"/>
              <a:chExt cx="4516920" cy="3168360"/>
            </a:xfrm>
          </p:grpSpPr>
          <p:graphicFrame>
            <p:nvGraphicFramePr>
              <p:cNvPr id="50" name=""/>
              <p:cNvGraphicFramePr/>
              <p:nvPr/>
            </p:nvGraphicFramePr>
            <p:xfrm>
              <a:off x="1523880" y="533520"/>
              <a:ext cx="4393080" cy="3168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523880" y="533520"/>
                        <a:ext cx="4393080" cy="3168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2" name=""/>
              <p:cNvSpPr/>
              <p:nvPr/>
            </p:nvSpPr>
            <p:spPr>
              <a:xfrm>
                <a:off x="5212080" y="984240"/>
                <a:ext cx="63432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9000" bIns="9000" anchor="t">
                <a:spAutoFit/>
              </a:bodyPr>
              <a:p>
                <a:pPr>
                  <a:tabLst>
                    <a:tab algn="l" pos="0"/>
                    <a:tab algn="l" pos="182520"/>
                    <a:tab algn="l" pos="365040"/>
                    <a:tab algn="l" pos="547560"/>
                    <a:tab algn="l" pos="730080"/>
                    <a:tab algn="l" pos="912960"/>
                    <a:tab algn="l" pos="1095480"/>
                    <a:tab algn="l" pos="1278000"/>
                    <a:tab algn="l" pos="1460520"/>
                    <a:tab algn="l" pos="1643040"/>
                    <a:tab algn="l" pos="1825560"/>
                    <a:tab algn="l" pos="2008080"/>
                    <a:tab algn="l" pos="2190600"/>
                    <a:tab algn="l" pos="2373480"/>
                    <a:tab algn="l" pos="2556000"/>
                    <a:tab algn="l" pos="2738520"/>
                    <a:tab algn="l" pos="2921040"/>
                    <a:tab algn="l" pos="3103560"/>
                    <a:tab algn="l" pos="3286080"/>
                    <a:tab algn="l" pos="3468600"/>
                    <a:tab algn="l" pos="36511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流星体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650400" y="2963880"/>
                <a:ext cx="5122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9000" bIns="9000" anchor="t">
                <a:spAutoFit/>
              </a:bodyPr>
              <a:p>
                <a:pPr>
                  <a:tabLst>
                    <a:tab algn="l" pos="0"/>
                    <a:tab algn="l" pos="182520"/>
                    <a:tab algn="l" pos="365040"/>
                    <a:tab algn="l" pos="547560"/>
                    <a:tab algn="l" pos="730080"/>
                    <a:tab algn="l" pos="912960"/>
                    <a:tab algn="l" pos="1095480"/>
                    <a:tab algn="l" pos="1278000"/>
                    <a:tab algn="l" pos="1460520"/>
                    <a:tab algn="l" pos="1643040"/>
                    <a:tab algn="l" pos="1825560"/>
                    <a:tab algn="l" pos="2008080"/>
                    <a:tab algn="l" pos="2190600"/>
                    <a:tab algn="l" pos="2373480"/>
                    <a:tab algn="l" pos="2556000"/>
                    <a:tab algn="l" pos="2738520"/>
                    <a:tab algn="l" pos="2921040"/>
                    <a:tab algn="l" pos="3103560"/>
                    <a:tab algn="l" pos="3286080"/>
                    <a:tab algn="l" pos="3468600"/>
                    <a:tab algn="l" pos="36511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隕石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528520" y="1827360"/>
                <a:ext cx="5122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9000" bIns="9000" anchor="t">
                <a:spAutoFit/>
              </a:bodyPr>
              <a:p>
                <a:pPr>
                  <a:tabLst>
                    <a:tab algn="l" pos="0"/>
                    <a:tab algn="l" pos="182520"/>
                    <a:tab algn="l" pos="365040"/>
                    <a:tab algn="l" pos="547560"/>
                    <a:tab algn="l" pos="730080"/>
                    <a:tab algn="l" pos="912960"/>
                    <a:tab algn="l" pos="1095480"/>
                    <a:tab algn="l" pos="1278000"/>
                    <a:tab algn="l" pos="1460520"/>
                    <a:tab algn="l" pos="1643040"/>
                    <a:tab algn="l" pos="1825560"/>
                    <a:tab algn="l" pos="2008080"/>
                    <a:tab algn="l" pos="2190600"/>
                    <a:tab algn="l" pos="2373480"/>
                    <a:tab algn="l" pos="2556000"/>
                    <a:tab algn="l" pos="2738520"/>
                    <a:tab algn="l" pos="2921040"/>
                    <a:tab algn="l" pos="3103560"/>
                    <a:tab algn="l" pos="3286080"/>
                    <a:tab algn="l" pos="3468600"/>
                    <a:tab algn="l" pos="36511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流星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444280" y="2135160"/>
                <a:ext cx="512280" cy="261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360" rIns="18360" tIns="9000" bIns="9000" anchor="t">
                <a:spAutoFit/>
              </a:bodyPr>
              <a:p>
                <a:pPr>
                  <a:tabLst>
                    <a:tab algn="l" pos="0"/>
                    <a:tab algn="l" pos="182520"/>
                    <a:tab algn="l" pos="365040"/>
                    <a:tab algn="l" pos="547560"/>
                    <a:tab algn="l" pos="730080"/>
                    <a:tab algn="l" pos="912960"/>
                    <a:tab algn="l" pos="1095480"/>
                    <a:tab algn="l" pos="1278000"/>
                    <a:tab algn="l" pos="1460520"/>
                    <a:tab algn="l" pos="1643040"/>
                    <a:tab algn="l" pos="1825560"/>
                    <a:tab algn="l" pos="2008080"/>
                    <a:tab algn="l" pos="2190600"/>
                    <a:tab algn="l" pos="2373480"/>
                    <a:tab algn="l" pos="2556000"/>
                    <a:tab algn="l" pos="2738520"/>
                    <a:tab algn="l" pos="2921040"/>
                    <a:tab algn="l" pos="3103560"/>
                    <a:tab algn="l" pos="3286080"/>
                    <a:tab algn="l" pos="3468600"/>
                    <a:tab algn="l" pos="36511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</a:rPr>
                  <a:t>火球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1703880" y="582480"/>
              <a:ext cx="246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流星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:</a:t>
              </a: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高度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80-110km</a:t>
              </a:r>
              <a:r>
                <a:rPr b="0" lang="zh-CN" sz="2000" spc="-1" strike="noStrike">
                  <a:solidFill>
                    <a:srgbClr val="ff0000"/>
                  </a:solidFill>
                  <a:latin typeface="Times New Roman"/>
                </a:rPr>
                <a:t>前後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62520" y="1947960"/>
            <a:ext cx="3504960" cy="2453760"/>
            <a:chOff x="3962520" y="1947960"/>
            <a:chExt cx="3504960" cy="2453760"/>
          </a:xfrm>
        </p:grpSpPr>
        <p:sp>
          <p:nvSpPr>
            <p:cNvPr id="58" name=""/>
            <p:cNvSpPr/>
            <p:nvPr/>
          </p:nvSpPr>
          <p:spPr>
            <a:xfrm flipH="1" flipV="1">
              <a:off x="3962520" y="1947960"/>
              <a:ext cx="3504960" cy="22788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3962520" y="2122920"/>
              <a:ext cx="3504960" cy="227880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28600" y="419112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レーダー単体では流星の速度ベクトル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飛翔方向、速さ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は決まらない。どうすればよいか</a:t>
            </a: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0000"/>
                </a:solidFill>
                <a:latin typeface="Times New Roman"/>
              </a:rPr>
              <a:t>宇宙線エコーの場合と同じ問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8000000">
            <a:off x="6857640" y="4190400"/>
            <a:ext cx="205740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00960" y="56386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レーダー送受信装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762120"/>
            <a:ext cx="86263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9000" bIns="9000" anchor="t">
            <a:spAutoFit/>
          </a:bodyPr>
          <a:p>
            <a:pPr>
              <a:tabLst>
                <a:tab algn="l" pos="0"/>
                <a:tab algn="l" pos="182520"/>
                <a:tab algn="l" pos="365040"/>
                <a:tab algn="l" pos="547560"/>
                <a:tab algn="l" pos="730080"/>
                <a:tab algn="l" pos="912960"/>
                <a:tab algn="l" pos="1095480"/>
                <a:tab algn="l" pos="1278000"/>
                <a:tab algn="l" pos="1460520"/>
                <a:tab algn="l" pos="1643040"/>
                <a:tab algn="l" pos="1825560"/>
                <a:tab algn="l" pos="2008080"/>
                <a:tab algn="l" pos="2190600"/>
                <a:tab algn="l" pos="2373480"/>
                <a:tab algn="l" pos="2556000"/>
                <a:tab algn="l" pos="2738520"/>
                <a:tab algn="l" pos="2921040"/>
                <a:tab algn="l" pos="3103560"/>
                <a:tab algn="l" pos="3286080"/>
                <a:tab algn="l" pos="3468600"/>
                <a:tab algn="l" pos="365112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射した電波は流星痕にそってできたプラズマ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内の全ての電子により散乱・反射される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*)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。ホイヘンスの原理により、下の図の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つの円錐の間の領域に反射波が存在する。円錐の間の領域の地表面による断面を流星の「フットプリント」と呼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57000" y="2514600"/>
            <a:ext cx="7267680" cy="3638520"/>
            <a:chOff x="657000" y="2514600"/>
            <a:chExt cx="7267680" cy="3638520"/>
          </a:xfrm>
        </p:grpSpPr>
        <p:grpSp>
          <p:nvGrpSpPr>
            <p:cNvPr id="65" name=""/>
            <p:cNvGrpSpPr/>
            <p:nvPr/>
          </p:nvGrpSpPr>
          <p:grpSpPr>
            <a:xfrm>
              <a:off x="1295280" y="2514600"/>
              <a:ext cx="6629400" cy="3638520"/>
              <a:chOff x="1295280" y="2514600"/>
              <a:chExt cx="6629400" cy="363852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295280" y="2514600"/>
                <a:ext cx="6629400" cy="3638520"/>
                <a:chOff x="1295280" y="2514600"/>
                <a:chExt cx="6629400" cy="3638520"/>
              </a:xfrm>
            </p:grpSpPr>
            <p:graphicFrame>
              <p:nvGraphicFramePr>
                <p:cNvPr id="67" name=""/>
                <p:cNvGraphicFramePr/>
                <p:nvPr/>
              </p:nvGraphicFramePr>
              <p:xfrm>
                <a:off x="1295280" y="2514600"/>
                <a:ext cx="6629400" cy="363852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6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95280" y="2514600"/>
                          <a:ext cx="6629400" cy="3638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9" name=""/>
                <p:cNvSpPr/>
                <p:nvPr/>
              </p:nvSpPr>
              <p:spPr>
                <a:xfrm>
                  <a:off x="2477520" y="2724120"/>
                  <a:ext cx="79020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ja-JP" sz="1600" spc="-1" strike="noStrike">
                      <a:solidFill>
                        <a:srgbClr val="000000"/>
                      </a:solidFill>
                      <a:latin typeface="Times New Roman"/>
                    </a:rPr>
                    <a:t>プラズマ柱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1486080" y="3195720"/>
                <a:ext cx="2057400" cy="3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657000" y="28954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3300"/>
                  </a:solidFill>
                  <a:latin typeface="Times New Roman"/>
                </a:rPr>
                <a:t>流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22800" y="6400800"/>
            <a:ext cx="4511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プラズマの密度が低い場合を扱う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fpe&lt;f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Radar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59840" y="17316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流星エコーの反射条件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直線上の反射体による「鏡面反射」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27440" y="464832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送信点と受信点が異なる場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前方散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38680" y="32004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SKII</a:t>
            </a: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の壁にあた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Times New Roman"/>
              </a:rPr>
              <a:t>チェレンコフ光の幾何学と同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78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89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40000" y="1484280"/>
            <a:ext cx="1295280" cy="6494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101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40000" y="1484280"/>
            <a:ext cx="1800360" cy="936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113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1484280"/>
            <a:ext cx="208764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905120" y="517680"/>
            <a:ext cx="5715000" cy="4706640"/>
            <a:chOff x="1905120" y="517680"/>
            <a:chExt cx="5715000" cy="470664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905120" y="517680"/>
              <a:ext cx="5715000" cy="4706640"/>
            </a:xfrm>
            <a:prstGeom prst="rect">
              <a:avLst/>
            </a:prstGeom>
            <a:ln w="38160">
              <a:solidFill>
                <a:srgbClr val="00cc99"/>
              </a:solidFill>
              <a:miter/>
            </a:ln>
          </p:spPr>
        </p:pic>
        <p:sp>
          <p:nvSpPr>
            <p:cNvPr id="125" name=""/>
            <p:cNvSpPr/>
            <p:nvPr/>
          </p:nvSpPr>
          <p:spPr>
            <a:xfrm>
              <a:off x="2512440" y="428112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レーダー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69080" y="4263840"/>
              <a:ext cx="225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追加受信点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A,B,…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95280" y="5305320"/>
            <a:ext cx="8496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→A, S→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の伝搬路の反射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は異なる。流星痕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→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へと伸びる速さ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流星速度であることを用いて、流星そのものの速度、飛翔方向の決定が可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00640" y="322884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19840" y="3743280"/>
            <a:ext cx="45720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7520" y="3886200"/>
            <a:ext cx="457200" cy="304920"/>
          </a:xfrm>
          <a:prstGeom prst="ellipse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1600" y="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流星の速度ベクトルを決めるに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1484280"/>
            <a:ext cx="2087640" cy="1081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44440" y="4680000"/>
            <a:ext cx="359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　後方散乱エコー受信　　　　　前方散乱エコー受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31440" y="609480"/>
            <a:ext cx="3048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学生実習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この原理を確かめよ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85920" y="1192320"/>
            <a:ext cx="79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流星の軌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6:02:12Z</dcterms:created>
  <dc:creator>meteor87</dc:creator>
  <dc:description/>
  <dc:language>en-US</dc:language>
  <cp:lastModifiedBy>meteor87</cp:lastModifiedBy>
  <dcterms:modified xsi:type="dcterms:W3CDTF">2010-01-29T08:41:20Z</dcterms:modified>
  <cp:revision>368</cp:revision>
  <dc:subject/>
  <dc:title>PowerPoint プレゼンテーション</dc:title>
</cp:coreProperties>
</file>