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D75-5B66-409B-9F83-8E451616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8BF-E69C-4CE3-93A4-65237568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DF6-D222-4C7B-AD7E-B788A8AB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9CC-4799-4374-9B5E-A232F12A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F74-444B-4680-8739-C3DED0C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9F3-FCD9-4454-A6F9-50D46FF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0FD-BC2C-40A3-99AF-C10559A2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2CC-416E-45C9-85C6-B49C60E6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963-80DF-49DC-8861-17314761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C96-026F-45EC-A23E-0B143FB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1F2-4EAB-4DB7-BF23-7755E63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0AF-C79E-4E75-B46E-73452D2A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0FFA-BCF5-498C-902C-B4AD9B75D6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76240" y="404640"/>
            <a:ext cx="7391520" cy="32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429240" y="3643200"/>
            <a:ext cx="1981440" cy="2936880"/>
          </a:xfrm>
          <a:prstGeom prst="rect">
            <a:avLst/>
          </a:prstGeom>
          <a:ln w="0">
            <a:noFill/>
          </a:ln>
        </p:spPr>
      </p:pic>
      <p:sp>
        <p:nvSpPr>
          <p:cNvPr id="45" name="円/楕円 5"/>
          <p:cNvSpPr/>
          <p:nvPr/>
        </p:nvSpPr>
        <p:spPr>
          <a:xfrm>
            <a:off x="4572000" y="2500200"/>
            <a:ext cx="2857680" cy="3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E851-5152-403D-AE16-49A5A4A3EC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285840" y="2543040"/>
            <a:ext cx="4000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85640" y="104760"/>
            <a:ext cx="8172720" cy="5467320"/>
          </a:xfrm>
          <a:prstGeom prst="rect">
            <a:avLst/>
          </a:prstGeom>
          <a:ln w="0">
            <a:noFill/>
          </a:ln>
        </p:spPr>
      </p:pic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0133-A665-41C8-822A-3EFB67D802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円/楕円 5"/>
          <p:cNvSpPr/>
          <p:nvPr/>
        </p:nvSpPr>
        <p:spPr>
          <a:xfrm>
            <a:off x="1785960" y="4572000"/>
            <a:ext cx="22860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Mark 6 Telescope"/>
          <p:cNvPicPr/>
          <p:nvPr/>
        </p:nvPicPr>
        <p:blipFill>
          <a:blip r:embed="rId3"/>
          <a:stretch/>
        </p:blipFill>
        <p:spPr>
          <a:xfrm>
            <a:off x="5072040" y="4645080"/>
            <a:ext cx="3071880" cy="20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2481120" y="1209600"/>
            <a:ext cx="41817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E69-84BF-4897-B0F4-9770468F28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6667560" cy="26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7010280" y="214200"/>
            <a:ext cx="1847880" cy="280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4"/>
          <a:stretch/>
        </p:blipFill>
        <p:spPr>
          <a:xfrm>
            <a:off x="985680" y="2895480"/>
            <a:ext cx="7172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3BE3-1275-4F80-B4B1-9122BC9807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6181560" cy="361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ESS-dark-full"/>
          <p:cNvPicPr/>
          <p:nvPr/>
        </p:nvPicPr>
        <p:blipFill>
          <a:blip r:embed="rId3"/>
          <a:srcRect l="9448" t="31147" r="0" b="31778"/>
          <a:stretch/>
        </p:blipFill>
        <p:spPr>
          <a:xfrm>
            <a:off x="0" y="4800600"/>
            <a:ext cx="4724280" cy="129060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66" name="Picture 4" descr=""/>
          <p:cNvPicPr/>
          <p:nvPr/>
        </p:nvPicPr>
        <p:blipFill>
          <a:blip r:embed="rId4"/>
          <a:stretch/>
        </p:blipFill>
        <p:spPr>
          <a:xfrm>
            <a:off x="1628640" y="1866960"/>
            <a:ext cx="588672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5062680" y="2890800"/>
            <a:ext cx="3295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27C1-A251-4212-9288-630CABBCC0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1280" y="352440"/>
            <a:ext cx="7182000" cy="293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angaroo_tel"/>
          <p:cNvPicPr/>
          <p:nvPr/>
        </p:nvPicPr>
        <p:blipFill>
          <a:blip r:embed="rId3"/>
          <a:srcRect l="12408" t="47603" r="17905" b="20382"/>
          <a:stretch/>
        </p:blipFill>
        <p:spPr>
          <a:xfrm>
            <a:off x="4800600" y="4800600"/>
            <a:ext cx="4343400" cy="1287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857160" y="1852560"/>
            <a:ext cx="7429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6:02:02Z</dcterms:created>
  <dc:creator>enomoto</dc:creator>
  <dc:description/>
  <dc:language>en-US</dc:language>
  <cp:lastModifiedBy>enomoto</cp:lastModifiedBy>
  <dcterms:modified xsi:type="dcterms:W3CDTF">2009-07-24T06:02:45Z</dcterms:modified>
  <cp:revision>1</cp:revision>
  <dc:subject/>
  <dc:title>スライド 1</dc:title>
</cp:coreProperties>
</file>