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995-EF95-490A-AB8E-712C7E87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36B-1960-49AD-8F01-000B2F7F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6A3-501E-4FBD-A8FE-05A51985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AB3-7F33-4410-8B80-DBC186C2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A64-D2B0-44E0-912E-422A2A4F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089-9F94-44D9-8C12-935CBB7D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5EF-7DAB-4D1C-A059-CA04693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1FE-720F-4903-A2D1-FD796D0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854-0960-4285-B290-CFD6F5A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A3D-E12D-467D-9A01-55E6BCD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9D1-189F-443D-AF37-385E4F7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A66-9180-4A51-98A7-FC7FE43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B3E-AA1B-4F96-B2B1-D6EBD61C70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4A01-C84D-4B81-96BE-5A7133CD55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14200" y="152280"/>
            <a:ext cx="8153640" cy="5133960"/>
          </a:xfrm>
          <a:prstGeom prst="rect">
            <a:avLst/>
          </a:prstGeom>
          <a:ln w="0">
            <a:noFill/>
          </a:ln>
        </p:spPr>
      </p:pic>
      <p:sp>
        <p:nvSpPr>
          <p:cNvPr id="45" name="円/楕円 5"/>
          <p:cNvSpPr/>
          <p:nvPr/>
        </p:nvSpPr>
        <p:spPr>
          <a:xfrm>
            <a:off x="5857920" y="3500280"/>
            <a:ext cx="200016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1957320" y="3929040"/>
            <a:ext cx="411480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543040" y="1195560"/>
            <a:ext cx="405792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3201-EEBC-4703-B716-65D56CBC44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674352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T3 after sunset"/>
          <p:cNvPicPr/>
          <p:nvPr/>
        </p:nvPicPr>
        <p:blipFill>
          <a:blip r:embed="rId3"/>
          <a:stretch/>
        </p:blipFill>
        <p:spPr>
          <a:xfrm>
            <a:off x="144360" y="2381400"/>
            <a:ext cx="2952720" cy="219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1766880" y="1905120"/>
            <a:ext cx="56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0DB-AC87-4CEB-83B5-D0F99E325D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5981760" cy="36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5767560" y="2843280"/>
            <a:ext cx="3019320" cy="35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1857240" y="41400"/>
            <a:ext cx="3714840" cy="677520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7"/>
          <p:cNvSpPr/>
          <p:nvPr/>
        </p:nvSpPr>
        <p:spPr>
          <a:xfrm>
            <a:off x="6096960" y="114300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GAROO-III 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既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1257480" y="1471680"/>
            <a:ext cx="6629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22:07Z</dcterms:created>
  <dc:creator>enomoto</dc:creator>
  <dc:description/>
  <dc:language>en-US</dc:language>
  <cp:lastModifiedBy>enomoto</cp:lastModifiedBy>
  <dcterms:modified xsi:type="dcterms:W3CDTF">2009-07-24T06:23:00Z</dcterms:modified>
  <cp:revision>1</cp:revision>
  <dc:subject/>
  <dc:title>スライド 1</dc:title>
</cp:coreProperties>
</file>