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1DA-CE2A-4C50-A416-1DFF8990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BDB1-890F-4884-A62A-FA3FCCE6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6D9-4C01-483D-A2A1-C0A18808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80D0-B483-483B-B80E-AB762A9D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7DA-6C7D-4AFA-839E-5F5CE7B6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C3B-951F-4EF5-A7B4-E19188CD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4EF0-10C8-40EF-BE04-406AD9CF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C54D-8E82-42C8-B25E-B4ED0A8E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980B-2BB9-4D0C-8E80-E3C25328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8DC-A464-4C27-85A3-F6BE3618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DDC2-842B-4945-B12C-3010A9EE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69A-FDE5-4A75-9E01-0474FE05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42AD-5EF8-4FB7-8351-099A464269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2752-A88B-4625-B848-F86CFA2458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142920" y="214200"/>
            <a:ext cx="8172360" cy="3676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0" y="3002040"/>
            <a:ext cx="3786120" cy="3855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4"/>
          <a:stretch/>
        </p:blipFill>
        <p:spPr>
          <a:xfrm>
            <a:off x="5014800" y="3429000"/>
            <a:ext cx="3467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EFB4-3A2E-42BD-B46C-76CAF29B8C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138240" y="142920"/>
            <a:ext cx="7934040" cy="359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1905120" y="866880"/>
            <a:ext cx="5333760" cy="5124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4"/>
          <a:stretch/>
        </p:blipFill>
        <p:spPr>
          <a:xfrm>
            <a:off x="3147840" y="2166840"/>
            <a:ext cx="28483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C3AD-DB0E-46A4-A763-B1E52152A2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71280" y="237960"/>
            <a:ext cx="7239240" cy="2905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976320" y="819000"/>
            <a:ext cx="719136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914B-9456-46A6-A4D7-B217F1D7ED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71280" y="214200"/>
            <a:ext cx="7963200" cy="2705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285840" y="2819520"/>
            <a:ext cx="3071880" cy="396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4"/>
          <a:stretch/>
        </p:blipFill>
        <p:spPr>
          <a:xfrm>
            <a:off x="3762360" y="2619360"/>
            <a:ext cx="39528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4101-5B6E-4D1A-B7B7-0D2DECE94C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500040" y="214200"/>
            <a:ext cx="8143920" cy="2629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190440" y="2500200"/>
            <a:ext cx="4238640" cy="4162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4"/>
          <a:stretch/>
        </p:blipFill>
        <p:spPr>
          <a:xfrm>
            <a:off x="2471760" y="1219320"/>
            <a:ext cx="4200480" cy="441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5"/>
          <a:stretch/>
        </p:blipFill>
        <p:spPr>
          <a:xfrm>
            <a:off x="4781520" y="1571760"/>
            <a:ext cx="40766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6:06:38Z</dcterms:created>
  <dc:creator>enomoto</dc:creator>
  <dc:description/>
  <dc:language>en-US</dc:language>
  <cp:lastModifiedBy>enomoto</cp:lastModifiedBy>
  <dcterms:modified xsi:type="dcterms:W3CDTF">2009-07-24T06:07:00Z</dcterms:modified>
  <cp:revision>1</cp:revision>
  <dc:subject/>
  <dc:title>スライド 1</dc:title>
</cp:coreProperties>
</file>