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1557-CE35-486E-9214-4CDD4162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E41-69EB-4169-8EEF-D1FABF6C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B3F-6E79-4762-B9DB-878EA451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900C-2AC2-4D62-B9EF-54E10D46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26DF-0F82-45B0-8038-BB9B397A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1702-1A1F-47BD-822A-C039AE51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7FD-FB87-4118-A31A-A7E34748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350A-55AA-4642-9D43-4B200F21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24F9-9EDE-4527-A1F0-E19E87CD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E4DB-8D92-4A6A-8BD6-E77A1916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179-DD2B-4444-88F4-33D40E9A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BC2-4789-4924-88F7-7A773132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C4FF-C765-4296-AD4B-E361F339B7D8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2AFC-911B-47E1-B944-4197D275E0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EBBB-280F-4CCD-917D-B8C3CB1D53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233360" y="357120"/>
            <a:ext cx="6677280" cy="1924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133640" y="3000240"/>
            <a:ext cx="6876720" cy="286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514600" y="1409760"/>
            <a:ext cx="4114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4:48:28Z</dcterms:created>
  <dc:creator>enomoto</dc:creator>
  <dc:description/>
  <dc:language>en-US</dc:language>
  <cp:lastModifiedBy>enomoto</cp:lastModifiedBy>
  <dcterms:modified xsi:type="dcterms:W3CDTF">2009-06-08T04:51:44Z</dcterms:modified>
  <cp:revision>1</cp:revision>
  <dc:subject/>
  <dc:title>スライド 1</dc:title>
</cp:coreProperties>
</file>