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923-D651-48E3-BF20-B1431708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4CD-2025-4710-84A6-BD449F81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B42-3541-4BD5-BB2F-86EC66CF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801-889D-4BD0-ACD1-571BFDB7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A23-DD08-42A2-B366-4729D5B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9FD-415F-42EB-B6A6-6CC97B3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9EC-BBE2-4013-8B0E-24F0EB8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8AB-9661-40E6-B7D3-80D3DA4D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237-69B6-438B-A34B-755C3E0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FFB-33CE-4483-A5E0-790F14C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27D-43D0-46FE-9682-D84B7BD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9E7-184A-493F-BF9C-52A91A32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615-6128-47CA-98B4-C7BBBE8E2D5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15BB-633A-45C0-BE87-98C459946B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57360" y="428760"/>
            <a:ext cx="7829280" cy="211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785960" y="2860560"/>
            <a:ext cx="5614920" cy="371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enomoto\Documents\temp\ICRR-seminar-2009Jun\crab.jpg"/>
          <p:cNvPicPr/>
          <p:nvPr/>
        </p:nvPicPr>
        <p:blipFill>
          <a:blip r:embed="rId3"/>
          <a:stretch/>
        </p:blipFill>
        <p:spPr>
          <a:xfrm>
            <a:off x="2746440" y="1922400"/>
            <a:ext cx="3651120" cy="3013200"/>
          </a:xfrm>
          <a:prstGeom prst="rect">
            <a:avLst/>
          </a:prstGeom>
          <a:ln w="0">
            <a:noFill/>
          </a:ln>
        </p:spPr>
      </p:pic>
      <p:sp>
        <p:nvSpPr>
          <p:cNvPr id="46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8DE-FDD9-4680-B95D-6F448E5D96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0AE9-6D74-488C-8BAC-240FBE41A7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47760" y="214200"/>
            <a:ext cx="8448480" cy="281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20" y="2795760"/>
            <a:ext cx="3962520" cy="399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714760" y="1662120"/>
            <a:ext cx="3714480" cy="35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4843440" y="2714760"/>
            <a:ext cx="3800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0F25-AAA9-433C-9F38-9C8007327C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8200" y="142920"/>
            <a:ext cx="8067600" cy="5505480"/>
          </a:xfrm>
          <a:prstGeom prst="rect">
            <a:avLst/>
          </a:prstGeom>
          <a:ln w="0">
            <a:noFill/>
          </a:ln>
        </p:spPr>
      </p:pic>
      <p:sp>
        <p:nvSpPr>
          <p:cNvPr id="58" name="円/楕円 6"/>
          <p:cNvSpPr/>
          <p:nvPr/>
        </p:nvSpPr>
        <p:spPr>
          <a:xfrm>
            <a:off x="6215040" y="3571920"/>
            <a:ext cx="17146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28760" y="1062000"/>
            <a:ext cx="4095720" cy="473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195800" y="1233360"/>
            <a:ext cx="41623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9:00:16Z</dcterms:created>
  <dc:creator>enomoto</dc:creator>
  <dc:description/>
  <dc:language>en-US</dc:language>
  <cp:lastModifiedBy>enomoto</cp:lastModifiedBy>
  <dcterms:modified xsi:type="dcterms:W3CDTF">2009-06-05T04:20:48Z</dcterms:modified>
  <cp:revision>17</cp:revision>
  <dc:subject/>
  <dc:title>スライド 1</dc:title>
</cp:coreProperties>
</file>