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8AD9-C6B2-46AE-BD35-43667B90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553C-F28D-4ABC-932B-27345A6F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1DA5-FD58-4B89-B1EC-7DE96219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9414-C8FA-40FD-ABFB-6613AC596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C8BB-5698-43CF-A793-1019A8CF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9D83-45B6-4A08-BF74-957A9259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D0C4-D1AF-42A8-8EAC-B406D246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3FD7-6120-477D-A921-642233C6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B3D0-A4A8-4515-9BC0-0B91E3EB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1BE6-A418-4FCB-BFF8-79EAB23A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9E53-D705-4FA2-B58F-4F3FBB9F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0DEF-7EE9-4F91-8748-48E01A5D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65E4-F1A1-459F-998F-05405F25A59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宇宙線空気シャワー・レーダー観測の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R/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44792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寺澤敏夫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東大宇宙線研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133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eV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達する超高エネルギー宇宙線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UHECR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起源は現在の宇宙線物理学の最大の謎である。次世代の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UHECR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観測法として電波的手段が注目されており、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UHECR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作る巨大空気シャワーのレーダー検出法はその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つである。セミナーではレーダー法についての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R/D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結果をお話ししたい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6560" y="152280"/>
            <a:ext cx="162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35360" y="4191120"/>
            <a:ext cx="52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共同研究者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中村卓司氏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極地研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・佐川宏行氏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宇宙線研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ほ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1714680" y="990720"/>
            <a:ext cx="5715000" cy="5715000"/>
            <a:chOff x="1714680" y="990720"/>
            <a:chExt cx="5715000" cy="5715000"/>
          </a:xfrm>
        </p:grpSpPr>
        <p:grpSp>
          <p:nvGrpSpPr>
            <p:cNvPr id="137" name=""/>
            <p:cNvGrpSpPr/>
            <p:nvPr/>
          </p:nvGrpSpPr>
          <p:grpSpPr>
            <a:xfrm>
              <a:off x="1714680" y="990720"/>
              <a:ext cx="5715000" cy="5715000"/>
              <a:chOff x="1714680" y="990720"/>
              <a:chExt cx="5715000" cy="571500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1714680" y="990720"/>
                <a:ext cx="5715000" cy="5715000"/>
                <a:chOff x="1714680" y="990720"/>
                <a:chExt cx="5715000" cy="5715000"/>
              </a:xfrm>
            </p:grpSpPr>
            <p:pic>
              <p:nvPicPr>
                <p:cNvPr id="139" name="MUsabaeToyoshinaMap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714680" y="990720"/>
                  <a:ext cx="5715000" cy="5715000"/>
                </a:xfrm>
                <a:prstGeom prst="rect">
                  <a:avLst/>
                </a:prstGeom>
                <a:ln w="0">
                  <a:noFill/>
                </a:ln>
              </p:spPr>
            </p:pic>
            <p:graphicFrame>
              <p:nvGraphicFramePr>
                <p:cNvPr id="140" name=""/>
                <p:cNvGraphicFramePr/>
                <p:nvPr/>
              </p:nvGraphicFramePr>
              <p:xfrm>
                <a:off x="4051440" y="3103560"/>
                <a:ext cx="760320" cy="98568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141" name="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4051440" y="3103560"/>
                          <a:ext cx="760320" cy="985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42" name=""/>
              <p:cNvSpPr/>
              <p:nvPr/>
            </p:nvSpPr>
            <p:spPr>
              <a:xfrm>
                <a:off x="5384880" y="464832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2590920" y="28368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57640" y="4914720"/>
              <a:ext cx="170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Times New Roman"/>
                </a:rPr>
                <a:t>受信点</a:t>
              </a:r>
              <a:r>
                <a:rPr b="0" lang="ja-JP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ja-JP" sz="2400" spc="-1" strike="noStrike">
                  <a:solidFill>
                    <a:srgbClr val="ff0000"/>
                  </a:solidFill>
                  <a:latin typeface="Times New Roman"/>
                </a:rPr>
                <a:t>秦野市</a:t>
              </a:r>
              <a:r>
                <a:rPr b="0" lang="ja-JP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070360" y="304920"/>
            <a:ext cx="52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009/7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末～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初旬   学生実習による流星電波エコー観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116520" y="2573280"/>
            <a:ext cx="1341360" cy="1190520"/>
            <a:chOff x="3116520" y="2573280"/>
            <a:chExt cx="1341360" cy="1190520"/>
          </a:xfrm>
        </p:grpSpPr>
        <p:sp>
          <p:nvSpPr>
            <p:cNvPr id="147" name=""/>
            <p:cNvSpPr/>
            <p:nvPr/>
          </p:nvSpPr>
          <p:spPr>
            <a:xfrm>
              <a:off x="3390840" y="2997360"/>
              <a:ext cx="1028880" cy="64260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57600" y="3063960"/>
              <a:ext cx="762120" cy="45720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29000" y="3121200"/>
              <a:ext cx="1028880" cy="64260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6520" y="2573280"/>
              <a:ext cx="122760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3333cc"/>
                  </a:solidFill>
                  <a:latin typeface="Times New Roman"/>
                </a:rPr>
                <a:t>送信点は</a:t>
              </a:r>
              <a:r>
                <a:rPr b="0" lang="ja-JP" sz="18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ja-JP" sz="1800" spc="-1" strike="noStrike">
                  <a:solidFill>
                    <a:srgbClr val="3333cc"/>
                  </a:solidFill>
                  <a:latin typeface="Times New Roman"/>
                </a:rPr>
                <a:t>箇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0" lang="ja-JP" sz="1200" spc="-1" strike="noStrike">
                  <a:solidFill>
                    <a:srgbClr val="3333cc"/>
                  </a:solidFill>
                  <a:latin typeface="Times New Roman"/>
                </a:rPr>
                <a:t>大町、池田、豊科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248520" y="1981080"/>
            <a:ext cx="2111040" cy="1465560"/>
            <a:chOff x="6248520" y="1981080"/>
            <a:chExt cx="2111040" cy="1465560"/>
          </a:xfrm>
        </p:grpSpPr>
        <p:sp>
          <p:nvSpPr>
            <p:cNvPr id="152" name=""/>
            <p:cNvSpPr/>
            <p:nvPr/>
          </p:nvSpPr>
          <p:spPr>
            <a:xfrm>
              <a:off x="7223400" y="1981080"/>
              <a:ext cx="1136160" cy="1465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受信機で再生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1050H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900H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750H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の可聴音化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2819520"/>
              <a:ext cx="761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742640" y="1481040"/>
            <a:ext cx="1738440" cy="2014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長野の３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矢口氏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それぞ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53.900300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53.900150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53.900000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で送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HADy_08020430" descr=""/>
          <p:cNvPicPr/>
          <p:nvPr/>
        </p:nvPicPr>
        <p:blipFill>
          <a:blip r:embed="rId1"/>
          <a:stretch/>
        </p:blipFill>
        <p:spPr>
          <a:xfrm>
            <a:off x="692280" y="914400"/>
            <a:ext cx="7189560" cy="457200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920880" y="5715000"/>
            <a:ext cx="6858000" cy="536040"/>
            <a:chOff x="920880" y="5715000"/>
            <a:chExt cx="6858000" cy="536040"/>
          </a:xfrm>
        </p:grpSpPr>
        <p:sp>
          <p:nvSpPr>
            <p:cNvPr id="157" name=""/>
            <p:cNvSpPr/>
            <p:nvPr/>
          </p:nvSpPr>
          <p:spPr>
            <a:xfrm>
              <a:off x="920880" y="5715000"/>
              <a:ext cx="685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40680" y="5791320"/>
              <a:ext cx="164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時間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(10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分間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911240" y="2057400"/>
            <a:ext cx="374760" cy="266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135440" y="2362320"/>
            <a:ext cx="2819520" cy="2103840"/>
            <a:chOff x="1135440" y="2362320"/>
            <a:chExt cx="2819520" cy="2103840"/>
          </a:xfrm>
        </p:grpSpPr>
        <p:sp>
          <p:nvSpPr>
            <p:cNvPr id="161" name=""/>
            <p:cNvSpPr/>
            <p:nvPr/>
          </p:nvSpPr>
          <p:spPr>
            <a:xfrm>
              <a:off x="3048840" y="2514600"/>
              <a:ext cx="906120" cy="19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0000"/>
                  </a:solidFill>
                  <a:latin typeface="Times New Roman"/>
                </a:rPr>
                <a:t>1050H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ja-JP" sz="1800" spc="-1" strike="noStrike">
                  <a:solidFill>
                    <a:srgbClr val="ff0000"/>
                  </a:solidFill>
                  <a:latin typeface="Times New Roman"/>
                </a:rPr>
                <a:t>900H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ja-JP" sz="1800" spc="-1" strike="noStrike">
                  <a:solidFill>
                    <a:srgbClr val="ff0000"/>
                  </a:solidFill>
                  <a:latin typeface="Times New Roman"/>
                </a:rPr>
                <a:t>750H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135440" y="2362320"/>
              <a:ext cx="592200" cy="1982520"/>
              <a:chOff x="1135440" y="2362320"/>
              <a:chExt cx="592200" cy="1982520"/>
            </a:xfrm>
          </p:grpSpPr>
          <p:sp>
            <p:nvSpPr>
              <p:cNvPr id="163" name=""/>
              <p:cNvSpPr/>
              <p:nvPr/>
            </p:nvSpPr>
            <p:spPr>
              <a:xfrm>
                <a:off x="1166040" y="236232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ff0000"/>
                    </a:solidFill>
                    <a:latin typeface="Times New Roman"/>
                  </a:rPr>
                  <a:t>大町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91240" y="32004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ff0000"/>
                    </a:solidFill>
                    <a:latin typeface="Times New Roman"/>
                  </a:rPr>
                  <a:t>池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35440" y="397656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ff0000"/>
                    </a:solidFill>
                    <a:latin typeface="Times New Roman"/>
                  </a:rPr>
                  <a:t>安曇野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2362320" y="1752480"/>
            <a:ext cx="6324480" cy="3608640"/>
            <a:chOff x="2362320" y="1752480"/>
            <a:chExt cx="6324480" cy="3608640"/>
          </a:xfrm>
        </p:grpSpPr>
        <p:grpSp>
          <p:nvGrpSpPr>
            <p:cNvPr id="167" name=""/>
            <p:cNvGrpSpPr/>
            <p:nvPr/>
          </p:nvGrpSpPr>
          <p:grpSpPr>
            <a:xfrm>
              <a:off x="2362320" y="1752480"/>
              <a:ext cx="6324480" cy="3608640"/>
              <a:chOff x="2362320" y="1752480"/>
              <a:chExt cx="6324480" cy="3608640"/>
            </a:xfrm>
          </p:grpSpPr>
          <p:sp>
            <p:nvSpPr>
              <p:cNvPr id="168" name=""/>
              <p:cNvSpPr/>
              <p:nvPr/>
            </p:nvSpPr>
            <p:spPr>
              <a:xfrm flipH="1">
                <a:off x="2362320" y="3343320"/>
                <a:ext cx="536400" cy="9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2830680" y="1752480"/>
                <a:ext cx="5856120" cy="3608640"/>
                <a:chOff x="2830680" y="1752480"/>
                <a:chExt cx="5856120" cy="3608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2830680" y="1752480"/>
                  <a:ext cx="5856120" cy="36086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71" name=""/>
                <p:cNvGraphicFramePr/>
                <p:nvPr/>
              </p:nvGraphicFramePr>
              <p:xfrm>
                <a:off x="3920040" y="4748040"/>
                <a:ext cx="3639960" cy="54720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172" name="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3920040" y="4748040"/>
                          <a:ext cx="3639960" cy="5472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73" name=""/>
                <p:cNvGraphicFramePr/>
                <p:nvPr/>
              </p:nvGraphicFramePr>
              <p:xfrm>
                <a:off x="2898720" y="1820160"/>
                <a:ext cx="5651280" cy="2902320"/>
              </p:xfrm>
              <a:graphic>
                <a:graphicData uri="http://schemas.openxmlformats.org/presentationml/2006/ole">
                  <p:oleObj r:id="rId4" spid="">
                    <p:embed/>
                    <p:pic>
                      <p:nvPicPr>
                        <p:cNvPr id="174" name="" descr=""/>
                        <p:cNvPicPr/>
                        <p:nvPr/>
                      </p:nvPicPr>
                      <p:blipFill>
                        <a:blip r:embed="rId5"/>
                        <a:stretch/>
                      </p:blipFill>
                      <p:spPr>
                        <a:xfrm>
                          <a:off x="2898720" y="1820160"/>
                          <a:ext cx="5651280" cy="2902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75" name=""/>
            <p:cNvGrpSpPr/>
            <p:nvPr/>
          </p:nvGrpSpPr>
          <p:grpSpPr>
            <a:xfrm>
              <a:off x="3657600" y="1981080"/>
              <a:ext cx="4724280" cy="536040"/>
              <a:chOff x="3657600" y="1981080"/>
              <a:chExt cx="4724280" cy="536040"/>
            </a:xfrm>
          </p:grpSpPr>
          <p:sp>
            <p:nvSpPr>
              <p:cNvPr id="176" name=""/>
              <p:cNvSpPr/>
              <p:nvPr/>
            </p:nvSpPr>
            <p:spPr>
              <a:xfrm>
                <a:off x="3657600" y="1981080"/>
                <a:ext cx="4724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274440" y="2057400"/>
                <a:ext cx="58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1" lang="ja-JP" sz="2400" spc="-1" strike="noStrike">
                    <a:solidFill>
                      <a:srgbClr val="000000"/>
                    </a:solidFill>
                    <a:latin typeface="Times New Roman"/>
                  </a:rPr>
                  <a:t>秒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3697200" y="2316240"/>
              <a:ext cx="1159560" cy="2049480"/>
              <a:chOff x="3697200" y="2316240"/>
              <a:chExt cx="1159560" cy="2049480"/>
            </a:xfrm>
          </p:grpSpPr>
          <p:sp>
            <p:nvSpPr>
              <p:cNvPr id="179" name=""/>
              <p:cNvSpPr/>
              <p:nvPr/>
            </p:nvSpPr>
            <p:spPr>
              <a:xfrm>
                <a:off x="3720600" y="2316240"/>
                <a:ext cx="1136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ff0000"/>
                    </a:solidFill>
                    <a:latin typeface="Times New Roman"/>
                  </a:rPr>
                  <a:t>大町 </a:t>
                </a:r>
                <a:r>
                  <a:rPr b="0" lang="ja-JP" sz="1400" spc="-1" strike="noStrike">
                    <a:solidFill>
                      <a:srgbClr val="ff0000"/>
                    </a:solidFill>
                    <a:latin typeface="Times New Roman"/>
                  </a:rPr>
                  <a:t>1050Hz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710520" y="3139920"/>
                <a:ext cx="107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ff0000"/>
                    </a:solidFill>
                    <a:latin typeface="Times New Roman"/>
                  </a:rPr>
                  <a:t>池田 </a:t>
                </a:r>
                <a:r>
                  <a:rPr b="0" lang="ja-JP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ja-JP" sz="1400" spc="-1" strike="noStrike">
                    <a:solidFill>
                      <a:srgbClr val="ff0000"/>
                    </a:solidFill>
                    <a:latin typeface="Times New Roman"/>
                  </a:rPr>
                  <a:t>900Hz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697200" y="3997440"/>
                <a:ext cx="115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ff0000"/>
                    </a:solidFill>
                    <a:latin typeface="Times New Roman"/>
                  </a:rPr>
                  <a:t>安曇野</a:t>
                </a:r>
                <a:r>
                  <a:rPr b="0" lang="ja-JP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ja-JP" sz="1400" spc="-1" strike="noStrike">
                    <a:solidFill>
                      <a:srgbClr val="ff0000"/>
                    </a:solidFill>
                    <a:latin typeface="Times New Roman"/>
                  </a:rPr>
                  <a:t>750Hz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2" name=""/>
          <p:cNvSpPr/>
          <p:nvPr/>
        </p:nvSpPr>
        <p:spPr>
          <a:xfrm>
            <a:off x="1524960" y="38088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秦野データのダイナミックスペクトル表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0" y="1066680"/>
            <a:ext cx="549360" cy="4267440"/>
            <a:chOff x="0" y="1066680"/>
            <a:chExt cx="549360" cy="4267440"/>
          </a:xfrm>
        </p:grpSpPr>
        <p:sp>
          <p:nvSpPr>
            <p:cNvPr id="184" name=""/>
            <p:cNvSpPr/>
            <p:nvPr/>
          </p:nvSpPr>
          <p:spPr>
            <a:xfrm flipV="1">
              <a:off x="533520" y="1066680"/>
              <a:ext cx="0" cy="426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2133720"/>
              <a:ext cx="54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周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714680" y="10666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191120" y="5778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流星の位置は不定。それを決めるためにはあと３組の時刻データが必要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038480" y="2819520"/>
            <a:ext cx="5105520" cy="1676160"/>
            <a:chOff x="4038480" y="2819520"/>
            <a:chExt cx="5105520" cy="1676160"/>
          </a:xfrm>
        </p:grpSpPr>
        <p:sp>
          <p:nvSpPr>
            <p:cNvPr id="190" name=""/>
            <p:cNvSpPr/>
            <p:nvPr/>
          </p:nvSpPr>
          <p:spPr>
            <a:xfrm flipH="1">
              <a:off x="4952880" y="3352680"/>
              <a:ext cx="990720" cy="1143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38480" y="2819520"/>
              <a:ext cx="510552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推定した飛翔方向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時刻計測誤差を考慮し、誤差の範囲でパラメタを振った結果を複数の矢印で示す。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4951080" y="120600"/>
            <a:ext cx="27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この観測例について決めた流星飛翔方向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6320" y="25560"/>
            <a:ext cx="4038480" cy="2489040"/>
            <a:chOff x="76320" y="25560"/>
            <a:chExt cx="4038480" cy="2489040"/>
          </a:xfrm>
        </p:grpSpPr>
        <p:grpSp>
          <p:nvGrpSpPr>
            <p:cNvPr id="194" name=""/>
            <p:cNvGrpSpPr/>
            <p:nvPr/>
          </p:nvGrpSpPr>
          <p:grpSpPr>
            <a:xfrm>
              <a:off x="76320" y="25560"/>
              <a:ext cx="4038480" cy="2489040"/>
              <a:chOff x="76320" y="25560"/>
              <a:chExt cx="4038480" cy="2489040"/>
            </a:xfrm>
          </p:grpSpPr>
          <p:sp>
            <p:nvSpPr>
              <p:cNvPr id="195" name=""/>
              <p:cNvSpPr/>
              <p:nvPr/>
            </p:nvSpPr>
            <p:spPr>
              <a:xfrm>
                <a:off x="76320" y="25560"/>
                <a:ext cx="4038480" cy="2489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96" name=""/>
              <p:cNvGraphicFramePr/>
              <p:nvPr/>
            </p:nvGraphicFramePr>
            <p:xfrm>
              <a:off x="827640" y="2091960"/>
              <a:ext cx="2509920" cy="3776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97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827640" y="2091960"/>
                        <a:ext cx="2509920" cy="377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98" name=""/>
              <p:cNvGraphicFramePr/>
              <p:nvPr/>
            </p:nvGraphicFramePr>
            <p:xfrm>
              <a:off x="123120" y="72360"/>
              <a:ext cx="3897360" cy="200196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99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123120" y="72360"/>
                        <a:ext cx="3897360" cy="200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00" name=""/>
            <p:cNvSpPr/>
            <p:nvPr/>
          </p:nvSpPr>
          <p:spPr>
            <a:xfrm>
              <a:off x="646200" y="254160"/>
              <a:ext cx="325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47640" y="381240"/>
              <a:ext cx="38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秒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668520" y="406440"/>
              <a:ext cx="943200" cy="1447200"/>
              <a:chOff x="668520" y="406440"/>
              <a:chExt cx="943200" cy="1447200"/>
            </a:xfrm>
          </p:grpSpPr>
          <p:sp>
            <p:nvSpPr>
              <p:cNvPr id="203" name=""/>
              <p:cNvSpPr/>
              <p:nvPr/>
            </p:nvSpPr>
            <p:spPr>
              <a:xfrm>
                <a:off x="690480" y="406440"/>
                <a:ext cx="921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200" spc="-1" strike="noStrike">
                    <a:solidFill>
                      <a:srgbClr val="ff0000"/>
                    </a:solidFill>
                    <a:latin typeface="Times New Roman"/>
                  </a:rPr>
                  <a:t>大町 </a:t>
                </a:r>
                <a:r>
                  <a:rPr b="0" lang="ja-JP" sz="1200" spc="-1" strike="noStrike">
                    <a:solidFill>
                      <a:srgbClr val="ff0000"/>
                    </a:solidFill>
                    <a:latin typeface="Times New Roman"/>
                  </a:rPr>
                  <a:t>1050H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77880" y="974520"/>
                <a:ext cx="884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200" spc="-1" strike="noStrike">
                    <a:solidFill>
                      <a:srgbClr val="ff0000"/>
                    </a:solidFill>
                    <a:latin typeface="Times New Roman"/>
                  </a:rPr>
                  <a:t>池田  </a:t>
                </a:r>
                <a:r>
                  <a:rPr b="0" lang="ja-JP" sz="1200" spc="-1" strike="noStrike">
                    <a:solidFill>
                      <a:srgbClr val="ff0000"/>
                    </a:solidFill>
                    <a:latin typeface="Times New Roman"/>
                  </a:rPr>
                  <a:t>900H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68520" y="1577160"/>
                <a:ext cx="93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200" spc="-1" strike="noStrike">
                    <a:solidFill>
                      <a:srgbClr val="ff0000"/>
                    </a:solidFill>
                    <a:latin typeface="Times New Roman"/>
                  </a:rPr>
                  <a:t>安曇野 </a:t>
                </a:r>
                <a:r>
                  <a:rPr b="0" lang="ja-JP" sz="1200" spc="-1" strike="noStrike">
                    <a:solidFill>
                      <a:srgbClr val="ff0000"/>
                    </a:solidFill>
                    <a:latin typeface="Times New Roman"/>
                  </a:rPr>
                  <a:t>750H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echo_20090727_2218_28_001" descr=""/>
          <p:cNvPicPr/>
          <p:nvPr/>
        </p:nvPicPr>
        <p:blipFill>
          <a:blip r:embed="rId1"/>
          <a:stretch/>
        </p:blipFill>
        <p:spPr>
          <a:xfrm>
            <a:off x="1714680" y="5716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478160" y="0"/>
            <a:ext cx="4773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別の実習例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2009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時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秒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J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96200" y="0"/>
            <a:ext cx="13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実効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パ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988720" y="3722400"/>
            <a:ext cx="3899520" cy="1679040"/>
            <a:chOff x="2988720" y="3722400"/>
            <a:chExt cx="3899520" cy="1679040"/>
          </a:xfrm>
        </p:grpSpPr>
        <p:sp>
          <p:nvSpPr>
            <p:cNvPr id="210" name=""/>
            <p:cNvSpPr/>
            <p:nvPr/>
          </p:nvSpPr>
          <p:spPr>
            <a:xfrm flipV="1">
              <a:off x="4419360" y="3722400"/>
              <a:ext cx="380880" cy="837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988720" y="4484520"/>
              <a:ext cx="3899520" cy="91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流星：長野県上空高度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100km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　　　　速度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42km/s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、放射点赤経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時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分、赤緯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-15.4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　　　　みずがめ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群に属する流星と見られ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68920" y="3886200"/>
            <a:ext cx="3672360" cy="2498400"/>
            <a:chOff x="268920" y="3886200"/>
            <a:chExt cx="3672360" cy="2498400"/>
          </a:xfrm>
        </p:grpSpPr>
        <p:grpSp>
          <p:nvGrpSpPr>
            <p:cNvPr id="213" name=""/>
            <p:cNvGrpSpPr/>
            <p:nvPr/>
          </p:nvGrpSpPr>
          <p:grpSpPr>
            <a:xfrm>
              <a:off x="268920" y="5109840"/>
              <a:ext cx="2084760" cy="1274760"/>
              <a:chOff x="268920" y="5109840"/>
              <a:chExt cx="2084760" cy="1274760"/>
            </a:xfrm>
          </p:grpSpPr>
          <p:sp>
            <p:nvSpPr>
              <p:cNvPr id="214" name=""/>
              <p:cNvSpPr/>
              <p:nvPr/>
            </p:nvSpPr>
            <p:spPr>
              <a:xfrm>
                <a:off x="268920" y="5742000"/>
                <a:ext cx="2084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000000"/>
                    </a:solidFill>
                    <a:latin typeface="Times New Roman"/>
                  </a:rPr>
                  <a:t>位置決定残差の等高線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lang="ja-JP" sz="1800" spc="-1" strike="noStrike">
                    <a:solidFill>
                      <a:srgbClr val="ff0000"/>
                    </a:solidFill>
                    <a:latin typeface="Times New Roman"/>
                  </a:rPr>
                  <a:t>赤</a:t>
                </a: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&gt;</a:t>
                </a:r>
                <a:r>
                  <a:rPr b="1" lang="ja-JP" sz="1800" spc="-1" strike="noStrike">
                    <a:solidFill>
                      <a:srgbClr val="ffff00"/>
                    </a:solidFill>
                    <a:latin typeface="Times New Roman"/>
                  </a:rPr>
                  <a:t>黄</a:t>
                </a: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&gt;</a:t>
                </a:r>
                <a:r>
                  <a:rPr b="1" lang="ja-JP" sz="1800" spc="-1" strike="noStrike">
                    <a:solidFill>
                      <a:srgbClr val="33ccff"/>
                    </a:solidFill>
                    <a:latin typeface="Times New Roman"/>
                  </a:rPr>
                  <a:t>水</a:t>
                </a: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&gt;</a:t>
                </a:r>
                <a:r>
                  <a:rPr b="1" lang="ja-JP" sz="1800" spc="-1" strike="noStrike">
                    <a:solidFill>
                      <a:srgbClr val="0000ff"/>
                    </a:solidFill>
                    <a:latin typeface="Times New Roman"/>
                  </a:rPr>
                  <a:t>青</a:t>
                </a: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&gt;</a:t>
                </a: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黒</a:t>
                </a: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939600" y="5109840"/>
                <a:ext cx="1007640" cy="64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3608280" y="3886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152280" y="2743200"/>
            <a:ext cx="236232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観測された時刻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モデルによる時刻の差の自乗和を最小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199320" y="2209680"/>
            <a:ext cx="1258560" cy="1436760"/>
            <a:chOff x="3199320" y="2209680"/>
            <a:chExt cx="1258560" cy="1436760"/>
          </a:xfrm>
        </p:grpSpPr>
        <p:sp>
          <p:nvSpPr>
            <p:cNvPr id="219" name=""/>
            <p:cNvSpPr/>
            <p:nvPr/>
          </p:nvSpPr>
          <p:spPr>
            <a:xfrm flipH="1">
              <a:off x="3228480" y="2579760"/>
              <a:ext cx="47880" cy="106668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390840" y="2633760"/>
              <a:ext cx="1028880" cy="64296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57600" y="2700360"/>
              <a:ext cx="762120" cy="45720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29000" y="2757600"/>
              <a:ext cx="1028880" cy="64296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99320" y="2209680"/>
              <a:ext cx="122760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3333cc"/>
                  </a:solidFill>
                  <a:latin typeface="Times New Roman"/>
                </a:rPr>
                <a:t>送信点は</a:t>
              </a:r>
              <a:r>
                <a:rPr b="0" lang="ja-JP" sz="1800" spc="-1" strike="noStrike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ja-JP" sz="1800" spc="-1" strike="noStrike">
                  <a:solidFill>
                    <a:srgbClr val="3333cc"/>
                  </a:solidFill>
                  <a:latin typeface="Times New Roman"/>
                </a:rPr>
                <a:t>箇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0" lang="ja-JP" sz="1200" spc="-1" strike="noStrike">
                  <a:solidFill>
                    <a:srgbClr val="3333cc"/>
                  </a:solidFill>
                  <a:latin typeface="Times New Roman"/>
                </a:rPr>
                <a:t>鯖江、大町、池田、豊科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511680" y="40384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Times New Roman"/>
              </a:rPr>
              <a:t>受信点９箇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1160" y="6400800"/>
            <a:ext cx="23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Times New Roman"/>
              </a:rPr>
              <a:t>エコーの最初の検出時のフットプリント形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5486400" y="6171840"/>
            <a:ext cx="22860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905120" y="1522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80880" y="609480"/>
            <a:ext cx="8229600" cy="5833800"/>
            <a:chOff x="380880" y="609480"/>
            <a:chExt cx="8229600" cy="5833800"/>
          </a:xfrm>
        </p:grpSpPr>
        <p:grpSp>
          <p:nvGrpSpPr>
            <p:cNvPr id="229" name=""/>
            <p:cNvGrpSpPr/>
            <p:nvPr/>
          </p:nvGrpSpPr>
          <p:grpSpPr>
            <a:xfrm>
              <a:off x="380880" y="2819520"/>
              <a:ext cx="4033800" cy="3623760"/>
              <a:chOff x="380880" y="2819520"/>
              <a:chExt cx="4033800" cy="36237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380880" y="3274920"/>
                <a:ext cx="4033800" cy="3168360"/>
                <a:chOff x="380880" y="3274920"/>
                <a:chExt cx="4033800" cy="316836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380880" y="3274920"/>
                  <a:ext cx="4033800" cy="3168360"/>
                  <a:chOff x="380880" y="3274920"/>
                  <a:chExt cx="4033800" cy="3168360"/>
                </a:xfrm>
              </p:grpSpPr>
              <p:graphicFrame>
                <p:nvGraphicFramePr>
                  <p:cNvPr id="232" name=""/>
                  <p:cNvGraphicFramePr/>
                  <p:nvPr/>
                </p:nvGraphicFramePr>
                <p:xfrm>
                  <a:off x="380880" y="3274920"/>
                  <a:ext cx="4033800" cy="316836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233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380880" y="3274920"/>
                            <a:ext cx="4033800" cy="3168360"/>
                          </a:xfrm>
                          <a:prstGeom prst="rect">
                            <a:avLst/>
                          </a:prstGeom>
                          <a:ln w="9360">
                            <a:solidFill>
                              <a:srgbClr val="ff0000"/>
                            </a:solidFill>
                            <a:miter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234" name=""/>
                  <p:cNvSpPr/>
                  <p:nvPr/>
                </p:nvSpPr>
                <p:spPr>
                  <a:xfrm>
                    <a:off x="2751480" y="3345840"/>
                    <a:ext cx="13831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高度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~20km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5" name=""/>
                <p:cNvSpPr/>
                <p:nvPr/>
              </p:nvSpPr>
              <p:spPr>
                <a:xfrm>
                  <a:off x="562680" y="6011640"/>
                  <a:ext cx="1137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宇宙線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EA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" name=""/>
              <p:cNvSpPr/>
              <p:nvPr/>
            </p:nvSpPr>
            <p:spPr>
              <a:xfrm>
                <a:off x="594720" y="2819520"/>
                <a:ext cx="1140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Times New Roman"/>
                  </a:rPr>
                  <a:t>            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685800" y="2133720"/>
              <a:ext cx="7620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複数の送受信点で観測し時間差を計測すれば場所と方向が決まる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筈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)←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流星観測で実用化されている方法の応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5800" y="609480"/>
              <a:ext cx="74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MU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の観測は宇宙線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EAS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エコーの存在証明が目的。次の段階をどうするか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5800" y="1371600"/>
              <a:ext cx="74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→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MU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単体では、エコーの位置を決めうるだけで、宇宙線の到来方向は判ら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68400" y="3733920"/>
              <a:ext cx="2558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電波の経路による到着時刻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到来方向の決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24280" y="5410080"/>
              <a:ext cx="388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流星電波観測の学生実習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この原理の体験をさせ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031040" y="838080"/>
            <a:ext cx="527832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目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1. Introduction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宇宙線のさまざまな電波観測手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レーダー法の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京大信楽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MU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レーダー概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宇宙線エコー候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その同定と強度推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レーダー法と制動輻射受信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付録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レーダー法学生実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駒場 全学体験セミナー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06560" y="152280"/>
            <a:ext cx="162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33520" y="4071960"/>
            <a:ext cx="8153280" cy="1719360"/>
            <a:chOff x="533520" y="4071960"/>
            <a:chExt cx="8153280" cy="1719360"/>
          </a:xfrm>
        </p:grpSpPr>
        <p:sp>
          <p:nvSpPr>
            <p:cNvPr id="245" name=""/>
            <p:cNvSpPr/>
            <p:nvPr/>
          </p:nvSpPr>
          <p:spPr>
            <a:xfrm>
              <a:off x="533520" y="5791320"/>
              <a:ext cx="81532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05920" y="4071960"/>
              <a:ext cx="0" cy="167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20400000">
              <a:off x="7086600" y="4529160"/>
              <a:ext cx="97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on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31040" y="838080"/>
            <a:ext cx="527832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目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1. Introduction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宇宙線のさまざまな電波観測手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レーダー法の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京大信楽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MU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レーダー概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宇宙線エコー候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その同定と強度推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レーダー法と制動輻射受信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付録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レーダー法学生実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駒場 全学体験セミナー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6560" y="152280"/>
            <a:ext cx="162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3880" y="533520"/>
            <a:ext cx="4516920" cy="3168360"/>
            <a:chOff x="1523880" y="533520"/>
            <a:chExt cx="4516920" cy="3168360"/>
          </a:xfrm>
        </p:grpSpPr>
        <p:grpSp>
          <p:nvGrpSpPr>
            <p:cNvPr id="49" name=""/>
            <p:cNvGrpSpPr/>
            <p:nvPr/>
          </p:nvGrpSpPr>
          <p:grpSpPr>
            <a:xfrm>
              <a:off x="1523880" y="533520"/>
              <a:ext cx="4516920" cy="3168360"/>
              <a:chOff x="1523880" y="533520"/>
              <a:chExt cx="4516920" cy="3168360"/>
            </a:xfrm>
          </p:grpSpPr>
          <p:graphicFrame>
            <p:nvGraphicFramePr>
              <p:cNvPr id="50" name=""/>
              <p:cNvGraphicFramePr/>
              <p:nvPr/>
            </p:nvGraphicFramePr>
            <p:xfrm>
              <a:off x="1523880" y="533520"/>
              <a:ext cx="4393080" cy="31683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523880" y="533520"/>
                        <a:ext cx="4393080" cy="3168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2" name=""/>
              <p:cNvSpPr/>
              <p:nvPr/>
            </p:nvSpPr>
            <p:spPr>
              <a:xfrm>
                <a:off x="5212080" y="984240"/>
                <a:ext cx="63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360" rIns="18360" tIns="9000" bIns="9000" anchor="t">
                <a:spAutoFit/>
              </a:bodyPr>
              <a:p>
                <a:pPr>
                  <a:tabLst>
                    <a:tab algn="l" pos="0"/>
                    <a:tab algn="l" pos="182520"/>
                    <a:tab algn="l" pos="365040"/>
                    <a:tab algn="l" pos="547560"/>
                    <a:tab algn="l" pos="730080"/>
                    <a:tab algn="l" pos="912960"/>
                    <a:tab algn="l" pos="1095480"/>
                    <a:tab algn="l" pos="1278000"/>
                    <a:tab algn="l" pos="1460520"/>
                    <a:tab algn="l" pos="1643040"/>
                    <a:tab algn="l" pos="1825560"/>
                    <a:tab algn="l" pos="2008080"/>
                    <a:tab algn="l" pos="2190600"/>
                    <a:tab algn="l" pos="2373480"/>
                    <a:tab algn="l" pos="2556000"/>
                    <a:tab algn="l" pos="2738520"/>
                    <a:tab algn="l" pos="2921040"/>
                    <a:tab algn="l" pos="3103560"/>
                    <a:tab algn="l" pos="3286080"/>
                    <a:tab algn="l" pos="3468600"/>
                    <a:tab algn="l" pos="365112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流星体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650400" y="2963880"/>
                <a:ext cx="5122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360" rIns="18360" tIns="9000" bIns="9000" anchor="t">
                <a:spAutoFit/>
              </a:bodyPr>
              <a:p>
                <a:pPr>
                  <a:tabLst>
                    <a:tab algn="l" pos="0"/>
                    <a:tab algn="l" pos="182520"/>
                    <a:tab algn="l" pos="365040"/>
                    <a:tab algn="l" pos="547560"/>
                    <a:tab algn="l" pos="730080"/>
                    <a:tab algn="l" pos="912960"/>
                    <a:tab algn="l" pos="1095480"/>
                    <a:tab algn="l" pos="1278000"/>
                    <a:tab algn="l" pos="1460520"/>
                    <a:tab algn="l" pos="1643040"/>
                    <a:tab algn="l" pos="1825560"/>
                    <a:tab algn="l" pos="2008080"/>
                    <a:tab algn="l" pos="2190600"/>
                    <a:tab algn="l" pos="2373480"/>
                    <a:tab algn="l" pos="2556000"/>
                    <a:tab algn="l" pos="2738520"/>
                    <a:tab algn="l" pos="2921040"/>
                    <a:tab algn="l" pos="3103560"/>
                    <a:tab algn="l" pos="3286080"/>
                    <a:tab algn="l" pos="3468600"/>
                    <a:tab algn="l" pos="365112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隕石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528520" y="1827360"/>
                <a:ext cx="5122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360" rIns="18360" tIns="9000" bIns="9000" anchor="t">
                <a:spAutoFit/>
              </a:bodyPr>
              <a:p>
                <a:pPr>
                  <a:tabLst>
                    <a:tab algn="l" pos="0"/>
                    <a:tab algn="l" pos="182520"/>
                    <a:tab algn="l" pos="365040"/>
                    <a:tab algn="l" pos="547560"/>
                    <a:tab algn="l" pos="730080"/>
                    <a:tab algn="l" pos="912960"/>
                    <a:tab algn="l" pos="1095480"/>
                    <a:tab algn="l" pos="1278000"/>
                    <a:tab algn="l" pos="1460520"/>
                    <a:tab algn="l" pos="1643040"/>
                    <a:tab algn="l" pos="1825560"/>
                    <a:tab algn="l" pos="2008080"/>
                    <a:tab algn="l" pos="2190600"/>
                    <a:tab algn="l" pos="2373480"/>
                    <a:tab algn="l" pos="2556000"/>
                    <a:tab algn="l" pos="2738520"/>
                    <a:tab algn="l" pos="2921040"/>
                    <a:tab algn="l" pos="3103560"/>
                    <a:tab algn="l" pos="3286080"/>
                    <a:tab algn="l" pos="3468600"/>
                    <a:tab algn="l" pos="365112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流星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444280" y="2135160"/>
                <a:ext cx="5122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360" rIns="18360" tIns="9000" bIns="9000" anchor="t">
                <a:spAutoFit/>
              </a:bodyPr>
              <a:p>
                <a:pPr>
                  <a:tabLst>
                    <a:tab algn="l" pos="0"/>
                    <a:tab algn="l" pos="182520"/>
                    <a:tab algn="l" pos="365040"/>
                    <a:tab algn="l" pos="547560"/>
                    <a:tab algn="l" pos="730080"/>
                    <a:tab algn="l" pos="912960"/>
                    <a:tab algn="l" pos="1095480"/>
                    <a:tab algn="l" pos="1278000"/>
                    <a:tab algn="l" pos="1460520"/>
                    <a:tab algn="l" pos="1643040"/>
                    <a:tab algn="l" pos="1825560"/>
                    <a:tab algn="l" pos="2008080"/>
                    <a:tab algn="l" pos="2190600"/>
                    <a:tab algn="l" pos="2373480"/>
                    <a:tab algn="l" pos="2556000"/>
                    <a:tab algn="l" pos="2738520"/>
                    <a:tab algn="l" pos="2921040"/>
                    <a:tab algn="l" pos="3103560"/>
                    <a:tab algn="l" pos="3286080"/>
                    <a:tab algn="l" pos="3468600"/>
                    <a:tab algn="l" pos="365112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火球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703880" y="582480"/>
              <a:ext cx="246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流星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高度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80-110km</a:t>
              </a: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前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962520" y="1947960"/>
            <a:ext cx="3504960" cy="2453760"/>
            <a:chOff x="3962520" y="1947960"/>
            <a:chExt cx="3504960" cy="2453760"/>
          </a:xfrm>
        </p:grpSpPr>
        <p:sp>
          <p:nvSpPr>
            <p:cNvPr id="58" name=""/>
            <p:cNvSpPr/>
            <p:nvPr/>
          </p:nvSpPr>
          <p:spPr>
            <a:xfrm flipH="1" flipV="1">
              <a:off x="3962520" y="1947960"/>
              <a:ext cx="3504960" cy="227880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3962520" y="2122920"/>
              <a:ext cx="3504960" cy="227880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28600" y="419112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レーダー単体では流星の速度ベクトル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飛翔方向、速さ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は決まらない。どうすればよいか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宇宙線エコーの場合と同じ問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8000000">
            <a:off x="6857640" y="4190400"/>
            <a:ext cx="205740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00960" y="56386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レーダー送受信装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762120"/>
            <a:ext cx="8626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9000" bIns="9000" anchor="t">
            <a:spAutoFit/>
          </a:bodyPr>
          <a:p>
            <a:pPr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入射した電波は流星痕にそってできたプラズマ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内の全ての電子により散乱・反射される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*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。ホイヘンスの原理により、下の図の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つの円錐の間の領域に反射波が存在する。円錐の間の領域の地表面による断面を流星の「フットプリント」と呼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657000" y="2514600"/>
            <a:ext cx="7267680" cy="3638520"/>
            <a:chOff x="657000" y="2514600"/>
            <a:chExt cx="7267680" cy="3638520"/>
          </a:xfrm>
        </p:grpSpPr>
        <p:grpSp>
          <p:nvGrpSpPr>
            <p:cNvPr id="65" name=""/>
            <p:cNvGrpSpPr/>
            <p:nvPr/>
          </p:nvGrpSpPr>
          <p:grpSpPr>
            <a:xfrm>
              <a:off x="1295280" y="2514600"/>
              <a:ext cx="6629400" cy="3638520"/>
              <a:chOff x="1295280" y="2514600"/>
              <a:chExt cx="6629400" cy="363852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1295280" y="2514600"/>
                <a:ext cx="6629400" cy="3638520"/>
                <a:chOff x="1295280" y="2514600"/>
                <a:chExt cx="6629400" cy="3638520"/>
              </a:xfrm>
            </p:grpSpPr>
            <p:graphicFrame>
              <p:nvGraphicFramePr>
                <p:cNvPr id="67" name=""/>
                <p:cNvGraphicFramePr/>
                <p:nvPr/>
              </p:nvGraphicFramePr>
              <p:xfrm>
                <a:off x="1295280" y="2514600"/>
                <a:ext cx="6629400" cy="363852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68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295280" y="2514600"/>
                          <a:ext cx="6629400" cy="3638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69" name=""/>
                <p:cNvSpPr/>
                <p:nvPr/>
              </p:nvSpPr>
              <p:spPr>
                <a:xfrm>
                  <a:off x="2477520" y="2724120"/>
                  <a:ext cx="79020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600" spc="-1" strike="noStrike">
                      <a:solidFill>
                        <a:srgbClr val="000000"/>
                      </a:solidFill>
                      <a:latin typeface="Times New Roman"/>
                    </a:rPr>
                    <a:t>プラズマ柱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" name=""/>
              <p:cNvSpPr/>
              <p:nvPr/>
            </p:nvSpPr>
            <p:spPr>
              <a:xfrm>
                <a:off x="1486080" y="3195720"/>
                <a:ext cx="2057400" cy="318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sysDot"/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657000" y="28954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3300"/>
                  </a:solidFill>
                  <a:latin typeface="Times New Roman"/>
                </a:rPr>
                <a:t>流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3322800" y="6400800"/>
            <a:ext cx="451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プラズマの密度が低い場合を扱う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fpe&lt;f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Radar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59840" y="17316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流星エコーの反射条件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直線上の反射体による「鏡面反射」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27440" y="464832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送信点と受信点が異なる場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前方散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38680" y="320040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Times New Roman"/>
              </a:rPr>
              <a:t>SKII</a:t>
            </a:r>
            <a:r>
              <a:rPr b="1" lang="ja-JP" sz="1800" spc="-1" strike="noStrike">
                <a:solidFill>
                  <a:srgbClr val="ff0000"/>
                </a:solidFill>
                <a:latin typeface="Times New Roman"/>
              </a:rPr>
              <a:t>の壁にあた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Times New Roman"/>
              </a:rPr>
              <a:t>チェレンコフ光の幾何学と同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1905120" y="517680"/>
            <a:ext cx="5715000" cy="4706640"/>
            <a:chOff x="1905120" y="517680"/>
            <a:chExt cx="5715000" cy="470664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1905120" y="517680"/>
              <a:ext cx="5715000" cy="4706640"/>
            </a:xfrm>
            <a:prstGeom prst="rect">
              <a:avLst/>
            </a:prstGeom>
            <a:ln w="38160">
              <a:solidFill>
                <a:srgbClr val="00cc99"/>
              </a:solidFill>
              <a:miter/>
            </a:ln>
          </p:spPr>
        </p:pic>
        <p:sp>
          <p:nvSpPr>
            <p:cNvPr id="78" name=""/>
            <p:cNvSpPr/>
            <p:nvPr/>
          </p:nvSpPr>
          <p:spPr>
            <a:xfrm>
              <a:off x="2512440" y="4281120"/>
              <a:ext cx="13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レーダー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969080" y="4263840"/>
              <a:ext cx="225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追加受信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A,B,…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395280" y="5305320"/>
            <a:ext cx="8496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→A, S→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の伝搬路の反射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は異なる。流星痕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→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へと伸びる速さ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流星速度であることを用いて、流星そのものの速度、飛翔方向の決定が可能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00640" y="3228840"/>
            <a:ext cx="4572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19840" y="3743280"/>
            <a:ext cx="4572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57520" y="3886200"/>
            <a:ext cx="457200" cy="304920"/>
          </a:xfrm>
          <a:prstGeom prst="ellipse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1600" y="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流星の速度ベクトルを決めるには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44440" y="4680000"/>
            <a:ext cx="359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後方散乱エコー受信　　　　　前方散乱エコー受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85920" y="1192320"/>
            <a:ext cx="790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流星の軌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1905120" y="517680"/>
            <a:ext cx="5715000" cy="4706640"/>
            <a:chOff x="1905120" y="517680"/>
            <a:chExt cx="5715000" cy="470664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905120" y="517680"/>
              <a:ext cx="5715000" cy="4706640"/>
            </a:xfrm>
            <a:prstGeom prst="rect">
              <a:avLst/>
            </a:prstGeom>
            <a:ln w="38160">
              <a:solidFill>
                <a:srgbClr val="00cc99"/>
              </a:solidFill>
              <a:miter/>
            </a:ln>
          </p:spPr>
        </p:pic>
        <p:sp>
          <p:nvSpPr>
            <p:cNvPr id="89" name=""/>
            <p:cNvSpPr/>
            <p:nvPr/>
          </p:nvSpPr>
          <p:spPr>
            <a:xfrm>
              <a:off x="2512440" y="4281120"/>
              <a:ext cx="13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レーダー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69080" y="4263840"/>
              <a:ext cx="225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追加受信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A,B,…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395280" y="5305320"/>
            <a:ext cx="8496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→A, S→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の伝搬路の反射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は異なる。流星痕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→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へと伸びる速さ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流星速度であることを用いて、流星そのものの速度、飛翔方向の決定が可能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00640" y="3228840"/>
            <a:ext cx="4572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19840" y="3743280"/>
            <a:ext cx="4572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57520" y="3886200"/>
            <a:ext cx="457200" cy="304920"/>
          </a:xfrm>
          <a:prstGeom prst="ellipse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1600" y="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流星の速度ベクトルを決めるには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40000" y="1484280"/>
            <a:ext cx="1295280" cy="64944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44440" y="4680000"/>
            <a:ext cx="359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後方散乱エコー受信　　　　　前方散乱エコー受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85920" y="1192320"/>
            <a:ext cx="790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流星の軌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1905120" y="517680"/>
            <a:ext cx="5715000" cy="4706640"/>
            <a:chOff x="1905120" y="517680"/>
            <a:chExt cx="5715000" cy="470664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1905120" y="517680"/>
              <a:ext cx="5715000" cy="4706640"/>
            </a:xfrm>
            <a:prstGeom prst="rect">
              <a:avLst/>
            </a:prstGeom>
            <a:ln w="38160">
              <a:solidFill>
                <a:srgbClr val="00cc99"/>
              </a:solidFill>
              <a:miter/>
            </a:ln>
          </p:spPr>
        </p:pic>
        <p:sp>
          <p:nvSpPr>
            <p:cNvPr id="101" name=""/>
            <p:cNvSpPr/>
            <p:nvPr/>
          </p:nvSpPr>
          <p:spPr>
            <a:xfrm>
              <a:off x="2512440" y="4281120"/>
              <a:ext cx="13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レーダー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69080" y="4263840"/>
              <a:ext cx="225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追加受信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A,B,…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395280" y="5305320"/>
            <a:ext cx="8496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→A, S→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の伝搬路の反射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は異なる。流星痕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→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へと伸びる速さ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流星速度であることを用いて、流星そのものの速度、飛翔方向の決定が可能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00640" y="3228840"/>
            <a:ext cx="4572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19840" y="3743280"/>
            <a:ext cx="4572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57520" y="3886200"/>
            <a:ext cx="457200" cy="304920"/>
          </a:xfrm>
          <a:prstGeom prst="ellipse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1600" y="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流星の速度ベクトルを決めるには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40000" y="1484280"/>
            <a:ext cx="1800360" cy="9367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44440" y="4680000"/>
            <a:ext cx="359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後方散乱エコー受信　　　　　前方散乱エコー受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85920" y="1192320"/>
            <a:ext cx="790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流星の軌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905120" y="517680"/>
            <a:ext cx="5715000" cy="4706640"/>
            <a:chOff x="1905120" y="517680"/>
            <a:chExt cx="5715000" cy="470664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1905120" y="517680"/>
              <a:ext cx="5715000" cy="4706640"/>
            </a:xfrm>
            <a:prstGeom prst="rect">
              <a:avLst/>
            </a:prstGeom>
            <a:ln w="38160">
              <a:solidFill>
                <a:srgbClr val="00cc99"/>
              </a:solidFill>
              <a:miter/>
            </a:ln>
          </p:spPr>
        </p:pic>
        <p:sp>
          <p:nvSpPr>
            <p:cNvPr id="113" name=""/>
            <p:cNvSpPr/>
            <p:nvPr/>
          </p:nvSpPr>
          <p:spPr>
            <a:xfrm>
              <a:off x="2512440" y="4281120"/>
              <a:ext cx="13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レーダー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69080" y="4263840"/>
              <a:ext cx="225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追加受信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A,B,…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95280" y="5305320"/>
            <a:ext cx="8496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→A, S→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の伝搬路の反射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は異なる。流星痕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→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へと伸びる速さ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流星速度であることを用いて、流星そのものの速度、飛翔方向の決定が可能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00640" y="3228840"/>
            <a:ext cx="4572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19840" y="3743280"/>
            <a:ext cx="4572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57520" y="3886200"/>
            <a:ext cx="457200" cy="304920"/>
          </a:xfrm>
          <a:prstGeom prst="ellipse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1600" y="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流星の速度ベクトルを決めるには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1484280"/>
            <a:ext cx="2087640" cy="1081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44440" y="4680000"/>
            <a:ext cx="359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後方散乱エコー受信　　　　　前方散乱エコー受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85920" y="1192320"/>
            <a:ext cx="790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流星の軌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1905120" y="517680"/>
            <a:ext cx="5715000" cy="4706640"/>
            <a:chOff x="1905120" y="517680"/>
            <a:chExt cx="5715000" cy="470664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1905120" y="517680"/>
              <a:ext cx="5715000" cy="4706640"/>
            </a:xfrm>
            <a:prstGeom prst="rect">
              <a:avLst/>
            </a:prstGeom>
            <a:ln w="38160">
              <a:solidFill>
                <a:srgbClr val="00cc99"/>
              </a:solidFill>
              <a:miter/>
            </a:ln>
          </p:spPr>
        </p:pic>
        <p:sp>
          <p:nvSpPr>
            <p:cNvPr id="125" name=""/>
            <p:cNvSpPr/>
            <p:nvPr/>
          </p:nvSpPr>
          <p:spPr>
            <a:xfrm>
              <a:off x="2512440" y="4281120"/>
              <a:ext cx="13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レーダー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69080" y="4263840"/>
              <a:ext cx="225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追加受信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A,B,…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95280" y="5305320"/>
            <a:ext cx="8496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→A, S→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の伝搬路の反射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は異なる。流星痕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→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へと伸びる速さ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流星速度であることを用いて、流星そのものの速度、飛翔方向の決定が可能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00640" y="3228840"/>
            <a:ext cx="4572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19840" y="3743280"/>
            <a:ext cx="4572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57520" y="3886200"/>
            <a:ext cx="457200" cy="304920"/>
          </a:xfrm>
          <a:prstGeom prst="ellipse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1600" y="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流星の速度ベクトルを決めるには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40000" y="1484280"/>
            <a:ext cx="2087640" cy="1081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44440" y="4680000"/>
            <a:ext cx="359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後方散乱エコー受信　　　　　前方散乱エコー受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31440" y="609480"/>
            <a:ext cx="3048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学生実習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この原理を確かめよ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85920" y="1192320"/>
            <a:ext cx="790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流星の軌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06:02:12Z</dcterms:created>
  <dc:creator>meteor87</dc:creator>
  <dc:description/>
  <dc:language>en-US</dc:language>
  <cp:lastModifiedBy>meteor87</cp:lastModifiedBy>
  <dcterms:modified xsi:type="dcterms:W3CDTF">2010-01-29T08:41:20Z</dcterms:modified>
  <cp:revision>368</cp:revision>
  <dc:subject/>
  <dc:title>PowerPoint プレゼンテーション</dc:title>
</cp:coreProperties>
</file>