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970-D2C3-47C2-93C9-3C10F552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A61-4C61-4912-85E4-F32A1FC3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6BA-D8B7-4946-A973-A8E24F45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B23-1272-4B36-82DC-1DA25BBC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83F-CDB1-4D58-8B93-3619DA68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5B2-606F-478C-BF49-4E09CFC0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0A9-0C26-4AC1-AA0E-A23DC935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FCE-5328-4DC0-92F7-C2BD6B00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41B-C48A-4CDA-A3D5-2BF94767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82D-4733-47FF-B4EE-37D9EFBA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DEB-8EEE-465C-A915-2BDBD496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E99-85D1-4878-B4D1-82901D7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06CD-8D00-4EB8-973A-5E62C47032A9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C70B-DD87-4585-9713-F4EE0A5482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57360" y="428760"/>
            <a:ext cx="7829280" cy="211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785960" y="2860560"/>
            <a:ext cx="5614920" cy="371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enomoto\Documents\temp\ICRR-seminar-2009Jun\crab.jpg"/>
          <p:cNvPicPr/>
          <p:nvPr/>
        </p:nvPicPr>
        <p:blipFill>
          <a:blip r:embed="rId3"/>
          <a:stretch/>
        </p:blipFill>
        <p:spPr>
          <a:xfrm>
            <a:off x="2746440" y="1922400"/>
            <a:ext cx="3651120" cy="3013200"/>
          </a:xfrm>
          <a:prstGeom prst="rect">
            <a:avLst/>
          </a:prstGeom>
          <a:ln w="0">
            <a:noFill/>
          </a:ln>
        </p:spPr>
      </p:pic>
      <p:sp>
        <p:nvSpPr>
          <p:cNvPr id="46" name="スライド番号プレースホル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C3AF-ED49-44D9-B00F-9D73FCC6BF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DACA-92B3-4D1D-9CEE-B39179A042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47760" y="214200"/>
            <a:ext cx="8448480" cy="281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57120" y="2795760"/>
            <a:ext cx="3962520" cy="3990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714760" y="1662120"/>
            <a:ext cx="3714480" cy="353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4843440" y="2714760"/>
            <a:ext cx="3800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4B3A-0EC9-434F-98EB-2E29D4FF1A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38200" y="142920"/>
            <a:ext cx="8067600" cy="5505480"/>
          </a:xfrm>
          <a:prstGeom prst="rect">
            <a:avLst/>
          </a:prstGeom>
          <a:ln w="0">
            <a:noFill/>
          </a:ln>
        </p:spPr>
      </p:pic>
      <p:sp>
        <p:nvSpPr>
          <p:cNvPr id="58" name="円/楕円 6"/>
          <p:cNvSpPr/>
          <p:nvPr/>
        </p:nvSpPr>
        <p:spPr>
          <a:xfrm>
            <a:off x="6215040" y="3571920"/>
            <a:ext cx="171468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28760" y="1062000"/>
            <a:ext cx="4095720" cy="473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4195800" y="1233360"/>
            <a:ext cx="41623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09:00:16Z</dcterms:created>
  <dc:creator>enomoto</dc:creator>
  <dc:description/>
  <dc:language>en-US</dc:language>
  <cp:lastModifiedBy>enomoto</cp:lastModifiedBy>
  <dcterms:modified xsi:type="dcterms:W3CDTF">2009-06-05T04:20:48Z</dcterms:modified>
  <cp:revision>17</cp:revision>
  <dc:subject/>
  <dc:title>スライド 1</dc:title>
</cp:coreProperties>
</file>