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131-2F34-436C-BCC3-CA036BA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48A-C04A-4CA2-9F7C-A6363B9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6CF-C3CE-4588-95FA-15A17900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D65-F6A0-455E-94A8-D87D633C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965-0A39-4B84-B898-5F63068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C1C-BD4D-42DC-90CB-3BF48905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23F-309B-4055-BEFA-713A1455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D83-6C16-4C02-82BB-0D81A496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DF1-0057-46E5-A54F-298F0D8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281-4E95-4D45-BD60-3B0C90C9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5A1-B4EB-4C95-B4B4-B8797D2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97F-2E6F-4D2E-A3FE-0A0C0E3B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BFEA-6E36-47AF-92AC-33271C72C4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C2B8-7039-4A8B-854E-AB1A966FB9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14200" y="152280"/>
            <a:ext cx="8153640" cy="5133960"/>
          </a:xfrm>
          <a:prstGeom prst="rect">
            <a:avLst/>
          </a:prstGeom>
          <a:ln w="0">
            <a:noFill/>
          </a:ln>
        </p:spPr>
      </p:pic>
      <p:sp>
        <p:nvSpPr>
          <p:cNvPr id="45" name="円/楕円 5"/>
          <p:cNvSpPr/>
          <p:nvPr/>
        </p:nvSpPr>
        <p:spPr>
          <a:xfrm>
            <a:off x="5857920" y="3500280"/>
            <a:ext cx="2000160" cy="357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1957320" y="3929040"/>
            <a:ext cx="411480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543040" y="1195560"/>
            <a:ext cx="405792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24B5-7A09-46F1-912B-28880BB4AA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6743520" cy="222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T3 after sunset"/>
          <p:cNvPicPr/>
          <p:nvPr/>
        </p:nvPicPr>
        <p:blipFill>
          <a:blip r:embed="rId3"/>
          <a:stretch/>
        </p:blipFill>
        <p:spPr>
          <a:xfrm>
            <a:off x="144360" y="2381400"/>
            <a:ext cx="2952720" cy="219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1766880" y="1905120"/>
            <a:ext cx="56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D1EE-7FDF-49FA-AD3D-7CF20C17C9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5981760" cy="36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5767560" y="2843280"/>
            <a:ext cx="3019320" cy="35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1857240" y="41400"/>
            <a:ext cx="3714840" cy="677520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7"/>
          <p:cNvSpPr/>
          <p:nvPr/>
        </p:nvSpPr>
        <p:spPr>
          <a:xfrm>
            <a:off x="6096960" y="114300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GAROO-III 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既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1257480" y="1471680"/>
            <a:ext cx="66294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6:22:07Z</dcterms:created>
  <dc:creator>enomoto</dc:creator>
  <dc:description/>
  <dc:language>en-US</dc:language>
  <cp:lastModifiedBy>enomoto</cp:lastModifiedBy>
  <dcterms:modified xsi:type="dcterms:W3CDTF">2009-07-24T06:23:00Z</dcterms:modified>
  <cp:revision>1</cp:revision>
  <dc:subject/>
  <dc:title>スライド 1</dc:title>
</cp:coreProperties>
</file>