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8BE6-62FD-4EC4-B6E6-0675562E2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5FE8-43E7-4B83-A929-95A1A27A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C4C6-678D-4854-9535-53B5F3A82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58F9-D8E6-460F-AE57-77F53CA45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14CF-1DDE-4756-B850-1FB5BE4B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9C97-CC7E-4391-9CF6-4CB4DBB8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EAC8-6380-420F-AE1D-B6D4BBEA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6E69-18EA-4306-82AB-2F1A9694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4AE2-E528-47D1-8E25-B45617F3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79C0-8781-416A-AC17-CAF0850C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2E9A-5073-4C6F-9B30-83391E3D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B46B-10C5-4C9D-A984-6D601A75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BD4D-82E6-4E54-AF3C-D493177826F4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5A2E-00DC-42C4-A70A-C5252EB0EDE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07BC-E8BC-4C66-823E-0FF1F5F4062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233360" y="357120"/>
            <a:ext cx="6677280" cy="1924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1133640" y="3000240"/>
            <a:ext cx="6876720" cy="2867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2514600" y="1409760"/>
            <a:ext cx="4114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04:48:28Z</dcterms:created>
  <dc:creator>enomoto</dc:creator>
  <dc:description/>
  <dc:language>en-US</dc:language>
  <cp:lastModifiedBy>enomoto</cp:lastModifiedBy>
  <dcterms:modified xsi:type="dcterms:W3CDTF">2009-06-08T04:51:44Z</dcterms:modified>
  <cp:revision>1</cp:revision>
  <dc:subject/>
  <dc:title>スライド 1</dc:title>
</cp:coreProperties>
</file>