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07D-D647-42AB-8068-6A0F448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8D5-402D-4F9C-828D-81B941CD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AE9-EB4C-47DA-B401-F8A48101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BC1-4E05-4824-8706-E53E3A0D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859-8AF0-4153-B742-3B8E866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F41-E094-4720-A935-E73FAA8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24A-F6FA-409E-84DA-577C485D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54C-15CB-4890-B689-B497BF6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67C-8C1A-4453-90E6-054C182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F2F-380F-4CF0-91C3-22053D0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EFD-FDB7-4736-989E-A5B44838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06C-BD6A-414F-A074-069D78B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950-011F-4F59-9F20-B6A921F12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76240" y="404640"/>
            <a:ext cx="7391520" cy="32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29240" y="3643200"/>
            <a:ext cx="1981440" cy="2936880"/>
          </a:xfrm>
          <a:prstGeom prst="rect">
            <a:avLst/>
          </a:prstGeom>
          <a:ln w="0">
            <a:noFill/>
          </a:ln>
        </p:spPr>
      </p:pic>
      <p:sp>
        <p:nvSpPr>
          <p:cNvPr id="45" name="円/楕円 5"/>
          <p:cNvSpPr/>
          <p:nvPr/>
        </p:nvSpPr>
        <p:spPr>
          <a:xfrm>
            <a:off x="4572000" y="2500200"/>
            <a:ext cx="285768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9EBF-5B5C-46C1-AE91-5146A99416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285840" y="2543040"/>
            <a:ext cx="4000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85640" y="104760"/>
            <a:ext cx="8172720" cy="5467320"/>
          </a:xfrm>
          <a:prstGeom prst="rect">
            <a:avLst/>
          </a:prstGeom>
          <a:ln w="0">
            <a:noFill/>
          </a:ln>
        </p:spPr>
      </p:pic>
      <p:sp>
        <p:nvSpPr>
          <p:cNvPr id="51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CBE2-94B7-4102-8549-1BFA97289E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円/楕円 5"/>
          <p:cNvSpPr/>
          <p:nvPr/>
        </p:nvSpPr>
        <p:spPr>
          <a:xfrm>
            <a:off x="1785960" y="4572000"/>
            <a:ext cx="22860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Mark 6 Telescope"/>
          <p:cNvPicPr/>
          <p:nvPr/>
        </p:nvPicPr>
        <p:blipFill>
          <a:blip r:embed="rId3"/>
          <a:stretch/>
        </p:blipFill>
        <p:spPr>
          <a:xfrm>
            <a:off x="5072040" y="4645080"/>
            <a:ext cx="3071880" cy="20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2481120" y="1209600"/>
            <a:ext cx="41817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E0B-3144-4797-B146-D2116125CE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6667560" cy="26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7010280" y="214200"/>
            <a:ext cx="1847880" cy="280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4"/>
          <a:stretch/>
        </p:blipFill>
        <p:spPr>
          <a:xfrm>
            <a:off x="985680" y="2895480"/>
            <a:ext cx="7172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724-8289-4AA5-94A1-97EFCB2925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6181560" cy="361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ESS-dark-full"/>
          <p:cNvPicPr/>
          <p:nvPr/>
        </p:nvPicPr>
        <p:blipFill>
          <a:blip r:embed="rId3"/>
          <a:srcRect l="9448" t="31147" r="0" b="31778"/>
          <a:stretch/>
        </p:blipFill>
        <p:spPr>
          <a:xfrm>
            <a:off x="0" y="4800600"/>
            <a:ext cx="4724280" cy="129060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>
            <a:off x="1628640" y="1866960"/>
            <a:ext cx="588672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5"/>
          <a:stretch/>
        </p:blipFill>
        <p:spPr>
          <a:xfrm>
            <a:off x="5062680" y="2890800"/>
            <a:ext cx="3295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82E-F484-4D5E-9D76-2938A982B1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1280" y="352440"/>
            <a:ext cx="718200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angaroo_tel"/>
          <p:cNvPicPr/>
          <p:nvPr/>
        </p:nvPicPr>
        <p:blipFill>
          <a:blip r:embed="rId3"/>
          <a:srcRect l="12408" t="47603" r="17905" b="20382"/>
          <a:stretch/>
        </p:blipFill>
        <p:spPr>
          <a:xfrm>
            <a:off x="4800600" y="4800600"/>
            <a:ext cx="4343400" cy="1287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857160" y="1852560"/>
            <a:ext cx="7429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02:02Z</dcterms:created>
  <dc:creator>enomoto</dc:creator>
  <dc:description/>
  <dc:language>en-US</dc:language>
  <cp:lastModifiedBy>enomoto</cp:lastModifiedBy>
  <dcterms:modified xsi:type="dcterms:W3CDTF">2009-07-24T06:02:45Z</dcterms:modified>
  <cp:revision>1</cp:revision>
  <dc:subject/>
  <dc:title>スライド 1</dc:title>
</cp:coreProperties>
</file>