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311-29DB-48E2-BD7E-2A209768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DB8-ABD3-429F-BAE6-B19ED61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CAC-222F-4E1A-AE0A-FDE35E0A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32A-65AB-4052-A2E8-1E720CC2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675-DBFE-472D-BF56-B00CE4C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E23-218A-4319-B273-CB7FE93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73F-45F3-4637-A2E9-DA59166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DA4-041A-424F-886C-5A640D7E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8FA-141D-4368-9857-59EC725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070-EFAF-4811-A975-C2D366E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CD5-CAD2-493F-A8C5-B442CC53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A5B-627E-4EE2-8F03-3F733CE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F2A-A85C-4589-BEAB-6AE96C462F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D30-A3BF-412E-A4F9-4A3542404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817236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3002040"/>
            <a:ext cx="3786120" cy="3855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5014800" y="3429000"/>
            <a:ext cx="3467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783B-0021-4438-B1D1-6143ABAAB3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38240" y="142920"/>
            <a:ext cx="7934040" cy="359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905120" y="866880"/>
            <a:ext cx="5333760" cy="512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47840" y="2166840"/>
            <a:ext cx="28483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2388-440F-43D9-82E2-C3EBC511AD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1280" y="237960"/>
            <a:ext cx="723924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976320" y="819000"/>
            <a:ext cx="71913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E80-BCFD-4192-BAA8-EAD34207C3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1280" y="214200"/>
            <a:ext cx="7963200" cy="270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285840" y="2819520"/>
            <a:ext cx="3071880" cy="396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4"/>
          <a:stretch/>
        </p:blipFill>
        <p:spPr>
          <a:xfrm>
            <a:off x="3762360" y="2619360"/>
            <a:ext cx="3952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8DC6-2F74-4F3E-847C-05D31A03E7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8143920" cy="262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190440" y="2500200"/>
            <a:ext cx="4238640" cy="416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2471760" y="1219320"/>
            <a:ext cx="4200480" cy="441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5"/>
          <a:stretch/>
        </p:blipFill>
        <p:spPr>
          <a:xfrm>
            <a:off x="4781520" y="1571760"/>
            <a:ext cx="4076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06:38Z</dcterms:created>
  <dc:creator>enomoto</dc:creator>
  <dc:description/>
  <dc:language>en-US</dc:language>
  <cp:lastModifiedBy>enomoto</cp:lastModifiedBy>
  <dcterms:modified xsi:type="dcterms:W3CDTF">2009-07-24T06:07:00Z</dcterms:modified>
  <cp:revision>1</cp:revision>
  <dc:subject/>
  <dc:title>スライド 1</dc:title>
</cp:coreProperties>
</file>