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F25-7F11-44BF-A6D6-D2B2FA84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EBFC-F045-43DF-981C-E09D17BC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885-0BF4-469D-9D23-612DE320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FE29-6925-4889-B3C5-D4DE1BBC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4591-444E-43BC-B250-5F04D8D5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A411-F114-4F78-BCB9-7B1B7252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F0CF-CD26-4997-B236-2855666D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84AF-713D-4B81-AE47-9D54A9AE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941-BFA2-468C-927A-8457C15A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2FB-0A86-412F-909A-2A53A959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608-7D57-4277-AD25-47080130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D0D-59CB-430E-8FC4-C34E56F8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1E94-1C9C-4E4C-A0B6-C049E179834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08200" y="380880"/>
            <a:ext cx="75963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 Unicode MS"/>
              </a:rPr>
              <a:t>粒子加速と伝播：プラズマ物理と宇宙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 Unicode MS"/>
              </a:rPr>
              <a:t>Particle Acceleration and Propag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 Unicode MS"/>
              </a:rPr>
              <a:t>Plasma Physics and Cosmic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寺沢敏夫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東工大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37560" y="556272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2008.12.24   @ICRR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セミナ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803240" y="228600"/>
            <a:ext cx="493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宇宙線の起源にかかわる残された問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プラズマ物理学の観点か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5800" y="1295280"/>
            <a:ext cx="37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極高エネルギー宇宙線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UHEC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起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04280" y="1752480"/>
            <a:ext cx="253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加速の反作用：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る衝撃波の変成・磁場増幅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320" y="2209680"/>
            <a:ext cx="697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陽子加速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電子加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古典的：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/p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%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どう説明するか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現代的：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e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ガンマ線の起源 陽子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s.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電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（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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56880" y="3657600"/>
            <a:ext cx="367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衝撃波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geometry: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平行か垂直か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相対論的衝撃波・相対論的プラズマ乱流の構造は未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98440" y="449568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非・衝撃波統計加速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838080" y="1219320"/>
            <a:ext cx="7575480" cy="4330440"/>
            <a:chOff x="838080" y="1219320"/>
            <a:chExt cx="7575480" cy="4330440"/>
          </a:xfrm>
        </p:grpSpPr>
        <p:sp>
          <p:nvSpPr>
            <p:cNvPr id="137" name=""/>
            <p:cNvSpPr/>
            <p:nvPr/>
          </p:nvSpPr>
          <p:spPr>
            <a:xfrm>
              <a:off x="838080" y="1219320"/>
              <a:ext cx="7575480" cy="3886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57600" y="51814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いささか各論的な話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080440" y="556272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宇宙線物理学・宇宙プラズマ物理学を包含する上位概念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5040" y="609588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→“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stroparticle physics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612720"/>
            <a:ext cx="82296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Astroparticle physics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→現在、「宇宙素粒子物理学」の意味で使われてい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Astroparticle physic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は、“素粒子”に限らず、もっと通常の物質を含めて考えてよいのではない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普通の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Astrophysics/Astr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…地球外から飛来する</a:t>
            </a: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光子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用いた宇宙現象の認識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対象とする物理学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科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Astroparticle 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→地球外から飛来する</a:t>
            </a: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物質粒子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用いた宇宙現象の認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を対象とする物理学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CRenespec" descr=""/>
          <p:cNvPicPr/>
          <p:nvPr/>
        </p:nvPicPr>
        <p:blipFill>
          <a:blip r:embed="rId1"/>
          <a:stretch/>
        </p:blipFill>
        <p:spPr>
          <a:xfrm>
            <a:off x="3354480" y="1143000"/>
            <a:ext cx="475128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3293640" y="533520"/>
            <a:ext cx="5149080" cy="685800"/>
            <a:chOff x="3293640" y="533520"/>
            <a:chExt cx="5149080" cy="685800"/>
          </a:xfrm>
        </p:grpSpPr>
        <p:sp>
          <p:nvSpPr>
            <p:cNvPr id="144" name=""/>
            <p:cNvSpPr/>
            <p:nvPr/>
          </p:nvSpPr>
          <p:spPr>
            <a:xfrm>
              <a:off x="3293640" y="533520"/>
              <a:ext cx="51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100MeV                                       10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87640" y="914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73840" y="914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062360" y="762120"/>
            <a:ext cx="2747160" cy="685800"/>
            <a:chOff x="1062360" y="762120"/>
            <a:chExt cx="2747160" cy="685800"/>
          </a:xfrm>
        </p:grpSpPr>
        <p:sp>
          <p:nvSpPr>
            <p:cNvPr id="148" name=""/>
            <p:cNvSpPr/>
            <p:nvPr/>
          </p:nvSpPr>
          <p:spPr>
            <a:xfrm flipH="1">
              <a:off x="1371240" y="144792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62360" y="762120"/>
              <a:ext cx="262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1eV        1keV        1M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390680" y="1066680"/>
              <a:ext cx="1885680" cy="304920"/>
              <a:chOff x="1390680" y="1066680"/>
              <a:chExt cx="1885680" cy="304920"/>
            </a:xfrm>
          </p:grpSpPr>
          <p:sp>
            <p:nvSpPr>
              <p:cNvPr id="151" name=""/>
              <p:cNvSpPr/>
              <p:nvPr/>
            </p:nvSpPr>
            <p:spPr>
              <a:xfrm>
                <a:off x="1390680" y="10666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314080" y="10666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276360" y="10666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208160" y="1523880"/>
            <a:ext cx="1400040" cy="685800"/>
            <a:chOff x="1208160" y="1523880"/>
            <a:chExt cx="1400040" cy="685800"/>
          </a:xfrm>
        </p:grpSpPr>
        <p:sp>
          <p:nvSpPr>
            <p:cNvPr id="155" name=""/>
            <p:cNvSpPr/>
            <p:nvPr/>
          </p:nvSpPr>
          <p:spPr>
            <a:xfrm>
              <a:off x="1295280" y="2209680"/>
              <a:ext cx="1219320" cy="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08160" y="152388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cc"/>
                  </a:solidFill>
                  <a:latin typeface="Times New Roman"/>
                </a:rPr>
                <a:t>太陽風プラズ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ja-JP" sz="1400" spc="-1" strike="noStrike">
                  <a:solidFill>
                    <a:srgbClr val="3333cc"/>
                  </a:solidFill>
                  <a:latin typeface="Times New Roman"/>
                </a:rPr>
                <a:t>電子</a:t>
              </a:r>
              <a:r>
                <a:rPr b="0" lang="ja-JP" sz="1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ja-JP" sz="1400" spc="-1" strike="noStrike">
                  <a:solidFill>
                    <a:srgbClr val="3333cc"/>
                  </a:solidFill>
                  <a:latin typeface="Times New Roman"/>
                </a:rPr>
                <a:t>  陽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200400" y="2819520"/>
            <a:ext cx="1219320" cy="533160"/>
            <a:chOff x="3200400" y="2819520"/>
            <a:chExt cx="1219320" cy="533160"/>
          </a:xfrm>
        </p:grpSpPr>
        <p:sp>
          <p:nvSpPr>
            <p:cNvPr id="158" name=""/>
            <p:cNvSpPr/>
            <p:nvPr/>
          </p:nvSpPr>
          <p:spPr>
            <a:xfrm>
              <a:off x="3200400" y="3352680"/>
              <a:ext cx="1219320" cy="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98760" y="2819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cc6600"/>
                  </a:solidFill>
                  <a:latin typeface="Times New Roman"/>
                </a:rPr>
                <a:t>太陽宇宙線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286000" y="2362320"/>
            <a:ext cx="1219320" cy="380880"/>
            <a:chOff x="2286000" y="2362320"/>
            <a:chExt cx="1219320" cy="380880"/>
          </a:xfrm>
        </p:grpSpPr>
        <p:sp>
          <p:nvSpPr>
            <p:cNvPr id="161" name=""/>
            <p:cNvSpPr/>
            <p:nvPr/>
          </p:nvSpPr>
          <p:spPr>
            <a:xfrm>
              <a:off x="2286000" y="2743200"/>
              <a:ext cx="121932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41600" y="236232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cc33"/>
                  </a:solidFill>
                  <a:latin typeface="Times New Roman"/>
                </a:rPr>
                <a:t>準熱的粒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0880" y="3657600"/>
            <a:ext cx="3657600" cy="1541880"/>
            <a:chOff x="380880" y="3657600"/>
            <a:chExt cx="3657600" cy="1541880"/>
          </a:xfrm>
        </p:grpSpPr>
        <p:sp>
          <p:nvSpPr>
            <p:cNvPr id="164" name=""/>
            <p:cNvSpPr/>
            <p:nvPr/>
          </p:nvSpPr>
          <p:spPr>
            <a:xfrm>
              <a:off x="1295280" y="3657600"/>
              <a:ext cx="1676520" cy="304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880" y="4495680"/>
              <a:ext cx="3657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ff"/>
                  </a:solidFill>
                  <a:latin typeface="Times New Roman"/>
                </a:rPr>
                <a:t>超新星残骸のプラズマ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ff"/>
                  </a:solidFill>
                  <a:latin typeface="Times New Roman"/>
                </a:rPr>
                <a:t>銀河団のプラズマなどの例を考えても、エネルギー範囲はあまり変わらない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1080" y="4038480"/>
              <a:ext cx="304920" cy="533520"/>
            </a:xfrm>
            <a:prstGeom prst="upArrow">
              <a:avLst>
                <a:gd name="adj1" fmla="val 50000"/>
                <a:gd name="adj2" fmla="val 4374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982800" y="3886200"/>
            <a:ext cx="6789600" cy="1294920"/>
            <a:chOff x="982800" y="3886200"/>
            <a:chExt cx="6789600" cy="1294920"/>
          </a:xfrm>
        </p:grpSpPr>
        <p:sp>
          <p:nvSpPr>
            <p:cNvPr id="168" name=""/>
            <p:cNvSpPr/>
            <p:nvPr/>
          </p:nvSpPr>
          <p:spPr>
            <a:xfrm>
              <a:off x="1523880" y="3886200"/>
              <a:ext cx="6248520" cy="0"/>
            </a:xfrm>
            <a:prstGeom prst="line">
              <a:avLst/>
            </a:prstGeom>
            <a:ln w="1522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82800" y="4264200"/>
              <a:ext cx="231264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Astroparticle physics</a:t>
              </a: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は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この全域、</a:t>
              </a: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桁に及ぶ範囲をカバ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すべき</a:t>
              </a: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/</a:t>
              </a: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したい</a:t>
              </a: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0" y="3657600"/>
            <a:ext cx="9296280" cy="337320"/>
            <a:chOff x="0" y="3657600"/>
            <a:chExt cx="9296280" cy="337320"/>
          </a:xfrm>
        </p:grpSpPr>
        <p:sp>
          <p:nvSpPr>
            <p:cNvPr id="171" name=""/>
            <p:cNvSpPr/>
            <p:nvPr/>
          </p:nvSpPr>
          <p:spPr>
            <a:xfrm>
              <a:off x="0" y="36576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3399"/>
                  </a:solidFill>
                  <a:latin typeface="Times New Roman"/>
                </a:rPr>
                <a:t>超低エネルギ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96080" y="36576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3399"/>
                  </a:solidFill>
                  <a:latin typeface="Times New Roman"/>
                </a:rPr>
                <a:t>超高エネルギ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4417920" y="0"/>
            <a:ext cx="27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stroparticle 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0120" y="609480"/>
            <a:ext cx="1311120" cy="838440"/>
            <a:chOff x="60120" y="609480"/>
            <a:chExt cx="1311120" cy="838440"/>
          </a:xfrm>
        </p:grpSpPr>
        <p:sp>
          <p:nvSpPr>
            <p:cNvPr id="175" name=""/>
            <p:cNvSpPr/>
            <p:nvPr/>
          </p:nvSpPr>
          <p:spPr>
            <a:xfrm flipH="1">
              <a:off x="304560" y="144792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120" y="609480"/>
              <a:ext cx="112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3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(~10</a:t>
              </a:r>
              <a:r>
                <a:rPr b="0" lang="ja-JP" sz="1800" spc="-1" strike="noStrike" baseline="30000">
                  <a:solidFill>
                    <a:srgbClr val="000000"/>
                  </a:solidFill>
                  <a:latin typeface="Times New Roman"/>
                </a:rPr>
                <a:t>-3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 e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CRenespec" descr=""/>
          <p:cNvPicPr/>
          <p:nvPr/>
        </p:nvPicPr>
        <p:blipFill>
          <a:blip r:embed="rId1"/>
          <a:stretch/>
        </p:blipFill>
        <p:spPr>
          <a:xfrm>
            <a:off x="3354480" y="1143000"/>
            <a:ext cx="475128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3293640" y="533520"/>
            <a:ext cx="5149080" cy="685800"/>
            <a:chOff x="3293640" y="533520"/>
            <a:chExt cx="5149080" cy="685800"/>
          </a:xfrm>
        </p:grpSpPr>
        <p:sp>
          <p:nvSpPr>
            <p:cNvPr id="179" name=""/>
            <p:cNvSpPr/>
            <p:nvPr/>
          </p:nvSpPr>
          <p:spPr>
            <a:xfrm>
              <a:off x="3293640" y="533520"/>
              <a:ext cx="51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100MeV                                       10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7640" y="914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73840" y="914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062360" y="762120"/>
            <a:ext cx="2747160" cy="685800"/>
            <a:chOff x="1062360" y="762120"/>
            <a:chExt cx="2747160" cy="685800"/>
          </a:xfrm>
        </p:grpSpPr>
        <p:sp>
          <p:nvSpPr>
            <p:cNvPr id="183" name=""/>
            <p:cNvSpPr/>
            <p:nvPr/>
          </p:nvSpPr>
          <p:spPr>
            <a:xfrm flipH="1">
              <a:off x="1371240" y="144792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2360" y="762120"/>
              <a:ext cx="262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1eV        1keV        1M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390680" y="1066680"/>
              <a:ext cx="1885680" cy="304920"/>
              <a:chOff x="1390680" y="1066680"/>
              <a:chExt cx="1885680" cy="304920"/>
            </a:xfrm>
          </p:grpSpPr>
          <p:sp>
            <p:nvSpPr>
              <p:cNvPr id="186" name=""/>
              <p:cNvSpPr/>
              <p:nvPr/>
            </p:nvSpPr>
            <p:spPr>
              <a:xfrm>
                <a:off x="1390680" y="10666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14080" y="10666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76360" y="10666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208160" y="1523880"/>
            <a:ext cx="1400040" cy="685800"/>
            <a:chOff x="1208160" y="1523880"/>
            <a:chExt cx="1400040" cy="685800"/>
          </a:xfrm>
        </p:grpSpPr>
        <p:sp>
          <p:nvSpPr>
            <p:cNvPr id="190" name=""/>
            <p:cNvSpPr/>
            <p:nvPr/>
          </p:nvSpPr>
          <p:spPr>
            <a:xfrm>
              <a:off x="1295280" y="2209680"/>
              <a:ext cx="1219320" cy="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08160" y="152388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cc"/>
                  </a:solidFill>
                  <a:latin typeface="Times New Roman"/>
                </a:rPr>
                <a:t>太陽風プラズ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ja-JP" sz="1400" spc="-1" strike="noStrike">
                  <a:solidFill>
                    <a:srgbClr val="3333cc"/>
                  </a:solidFill>
                  <a:latin typeface="Times New Roman"/>
                </a:rPr>
                <a:t>電子</a:t>
              </a:r>
              <a:r>
                <a:rPr b="0" lang="ja-JP" sz="1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ja-JP" sz="1400" spc="-1" strike="noStrike">
                  <a:solidFill>
                    <a:srgbClr val="3333cc"/>
                  </a:solidFill>
                  <a:latin typeface="Times New Roman"/>
                </a:rPr>
                <a:t>  陽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200400" y="2819520"/>
            <a:ext cx="1219320" cy="533160"/>
            <a:chOff x="3200400" y="2819520"/>
            <a:chExt cx="1219320" cy="533160"/>
          </a:xfrm>
        </p:grpSpPr>
        <p:sp>
          <p:nvSpPr>
            <p:cNvPr id="193" name=""/>
            <p:cNvSpPr/>
            <p:nvPr/>
          </p:nvSpPr>
          <p:spPr>
            <a:xfrm>
              <a:off x="3200400" y="3352680"/>
              <a:ext cx="1219320" cy="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98760" y="2819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cc6600"/>
                  </a:solidFill>
                  <a:latin typeface="Times New Roman"/>
                </a:rPr>
                <a:t>太陽宇宙線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286000" y="2362320"/>
            <a:ext cx="1219320" cy="380880"/>
            <a:chOff x="2286000" y="2362320"/>
            <a:chExt cx="1219320" cy="380880"/>
          </a:xfrm>
        </p:grpSpPr>
        <p:sp>
          <p:nvSpPr>
            <p:cNvPr id="196" name=""/>
            <p:cNvSpPr/>
            <p:nvPr/>
          </p:nvSpPr>
          <p:spPr>
            <a:xfrm>
              <a:off x="2286000" y="2743200"/>
              <a:ext cx="121932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41600" y="236232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cc33"/>
                  </a:solidFill>
                  <a:latin typeface="Times New Roman"/>
                </a:rPr>
                <a:t>準熱的粒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0" y="3657600"/>
            <a:ext cx="9296280" cy="337320"/>
            <a:chOff x="0" y="3657600"/>
            <a:chExt cx="9296280" cy="337320"/>
          </a:xfrm>
        </p:grpSpPr>
        <p:sp>
          <p:nvSpPr>
            <p:cNvPr id="199" name=""/>
            <p:cNvSpPr/>
            <p:nvPr/>
          </p:nvSpPr>
          <p:spPr>
            <a:xfrm>
              <a:off x="0" y="36576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3399"/>
                  </a:solidFill>
                  <a:latin typeface="Times New Roman"/>
                </a:rPr>
                <a:t>超低エネルギ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96080" y="36576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3399"/>
                  </a:solidFill>
                  <a:latin typeface="Times New Roman"/>
                </a:rPr>
                <a:t>超高エネルギ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417920" y="0"/>
            <a:ext cx="27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stroparticle 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4572000"/>
            <a:ext cx="2819520" cy="457200"/>
          </a:xfrm>
          <a:custGeom>
            <a:avLst/>
            <a:gdLst>
              <a:gd name="textAreaLeft" fmla="*/ 29520 w 2819520"/>
              <a:gd name="textAreaRight" fmla="*/ 2790000 w 2819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33118" h="21600">
                <a:moveTo>
                  <a:pt x="0" y="0"/>
                </a:moveTo>
                <a:lnTo>
                  <a:pt x="133118" y="0"/>
                </a:lnTo>
                <a:lnTo>
                  <a:pt x="133118" y="21600"/>
                </a:lnTo>
                <a:lnTo>
                  <a:pt x="0" y="21600"/>
                </a:lnTo>
                <a:close/>
              </a:path>
              <a:path fill="lightenLess" w="133118" h="21600">
                <a:moveTo>
                  <a:pt x="0" y="0"/>
                </a:moveTo>
                <a:lnTo>
                  <a:pt x="133118" y="0"/>
                </a:lnTo>
                <a:lnTo>
                  <a:pt x="131718" y="1400"/>
                </a:lnTo>
                <a:lnTo>
                  <a:pt x="1400" y="1400"/>
                </a:lnTo>
                <a:close/>
              </a:path>
              <a:path fill="darken" w="133118" h="21600">
                <a:moveTo>
                  <a:pt x="133118" y="0"/>
                </a:moveTo>
                <a:lnTo>
                  <a:pt x="133118" y="21600"/>
                </a:lnTo>
                <a:lnTo>
                  <a:pt x="131718" y="20200"/>
                </a:lnTo>
                <a:lnTo>
                  <a:pt x="131718" y="1400"/>
                </a:lnTo>
                <a:close/>
              </a:path>
              <a:path fill="darkenLess" w="133118" h="21600">
                <a:moveTo>
                  <a:pt x="133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18" y="20200"/>
                </a:lnTo>
                <a:close/>
              </a:path>
              <a:path fill="lighten" w="133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低エネルギーフロンティ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4419720"/>
            <a:ext cx="2362320" cy="457200"/>
          </a:xfrm>
          <a:custGeom>
            <a:avLst/>
            <a:gdLst>
              <a:gd name="textAreaLeft" fmla="*/ 29520 w 2362320"/>
              <a:gd name="textAreaRight" fmla="*/ 2332800 w 2362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11535" h="21600">
                <a:moveTo>
                  <a:pt x="0" y="0"/>
                </a:moveTo>
                <a:lnTo>
                  <a:pt x="111535" y="0"/>
                </a:lnTo>
                <a:lnTo>
                  <a:pt x="111535" y="21600"/>
                </a:lnTo>
                <a:lnTo>
                  <a:pt x="0" y="21600"/>
                </a:lnTo>
                <a:close/>
              </a:path>
              <a:path fill="lightenLess" w="111535" h="21600">
                <a:moveTo>
                  <a:pt x="0" y="0"/>
                </a:moveTo>
                <a:lnTo>
                  <a:pt x="111535" y="0"/>
                </a:lnTo>
                <a:lnTo>
                  <a:pt x="110135" y="1400"/>
                </a:lnTo>
                <a:lnTo>
                  <a:pt x="1400" y="1400"/>
                </a:lnTo>
                <a:close/>
              </a:path>
              <a:path fill="darken" w="111535" h="21600">
                <a:moveTo>
                  <a:pt x="111535" y="0"/>
                </a:moveTo>
                <a:lnTo>
                  <a:pt x="111535" y="21600"/>
                </a:lnTo>
                <a:lnTo>
                  <a:pt x="110135" y="20200"/>
                </a:lnTo>
                <a:lnTo>
                  <a:pt x="110135" y="1400"/>
                </a:lnTo>
                <a:close/>
              </a:path>
              <a:path fill="darkenLess" w="111535" h="21600">
                <a:moveTo>
                  <a:pt x="111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35" y="20200"/>
                </a:lnTo>
                <a:close/>
              </a:path>
              <a:path fill="lighten" w="111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「高エネルギー」フロンティ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0120" y="609480"/>
            <a:ext cx="1311120" cy="838440"/>
            <a:chOff x="60120" y="609480"/>
            <a:chExt cx="1311120" cy="838440"/>
          </a:xfrm>
        </p:grpSpPr>
        <p:sp>
          <p:nvSpPr>
            <p:cNvPr id="205" name=""/>
            <p:cNvSpPr/>
            <p:nvPr/>
          </p:nvSpPr>
          <p:spPr>
            <a:xfrm flipH="1">
              <a:off x="304560" y="144792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120" y="609480"/>
              <a:ext cx="112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3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(~10</a:t>
              </a:r>
              <a:r>
                <a:rPr b="0" lang="ja-JP" sz="1800" spc="-1" strike="noStrike" baseline="30000">
                  <a:solidFill>
                    <a:srgbClr val="000000"/>
                  </a:solidFill>
                  <a:latin typeface="Times New Roman"/>
                </a:rPr>
                <a:t>-3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 e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28600" y="4038480"/>
            <a:ext cx="2819520" cy="457200"/>
          </a:xfrm>
          <a:custGeom>
            <a:avLst/>
            <a:gdLst>
              <a:gd name="textAreaLeft" fmla="*/ 29520 w 2819520"/>
              <a:gd name="textAreaRight" fmla="*/ 2790000 w 2819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33118" h="21600">
                <a:moveTo>
                  <a:pt x="0" y="0"/>
                </a:moveTo>
                <a:lnTo>
                  <a:pt x="133118" y="0"/>
                </a:lnTo>
                <a:lnTo>
                  <a:pt x="133118" y="21600"/>
                </a:lnTo>
                <a:lnTo>
                  <a:pt x="0" y="21600"/>
                </a:lnTo>
                <a:close/>
              </a:path>
              <a:path fill="lightenLess" w="133118" h="21600">
                <a:moveTo>
                  <a:pt x="0" y="0"/>
                </a:moveTo>
                <a:lnTo>
                  <a:pt x="133118" y="0"/>
                </a:lnTo>
                <a:lnTo>
                  <a:pt x="131718" y="1400"/>
                </a:lnTo>
                <a:lnTo>
                  <a:pt x="1400" y="1400"/>
                </a:lnTo>
                <a:close/>
              </a:path>
              <a:path fill="darken" w="133118" h="21600">
                <a:moveTo>
                  <a:pt x="133118" y="0"/>
                </a:moveTo>
                <a:lnTo>
                  <a:pt x="133118" y="21600"/>
                </a:lnTo>
                <a:lnTo>
                  <a:pt x="131718" y="20200"/>
                </a:lnTo>
                <a:lnTo>
                  <a:pt x="131718" y="1400"/>
                </a:lnTo>
                <a:close/>
              </a:path>
              <a:path fill="darkenLess" w="133118" h="21600">
                <a:moveTo>
                  <a:pt x="133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18" y="20200"/>
                </a:lnTo>
                <a:close/>
              </a:path>
              <a:path fill="lighten" w="133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非相対論的衝撃波の観測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40384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.e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44956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9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9" y="20200"/>
                </a:lnTo>
                <a:lnTo>
                  <a:pt x="58999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9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異方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5029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6.S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E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5105520"/>
            <a:ext cx="1295640" cy="30456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806" h="21600">
                <a:moveTo>
                  <a:pt x="0" y="0"/>
                </a:moveTo>
                <a:lnTo>
                  <a:pt x="91806" y="0"/>
                </a:lnTo>
                <a:lnTo>
                  <a:pt x="91806" y="21600"/>
                </a:lnTo>
                <a:lnTo>
                  <a:pt x="0" y="21600"/>
                </a:lnTo>
                <a:close/>
              </a:path>
              <a:path fill="lightenLess" w="91806" h="21600">
                <a:moveTo>
                  <a:pt x="0" y="0"/>
                </a:moveTo>
                <a:lnTo>
                  <a:pt x="91806" y="0"/>
                </a:lnTo>
                <a:lnTo>
                  <a:pt x="90406" y="1400"/>
                </a:lnTo>
                <a:lnTo>
                  <a:pt x="1400" y="1400"/>
                </a:lnTo>
                <a:close/>
              </a:path>
              <a:path fill="darken" w="91806" h="21600">
                <a:moveTo>
                  <a:pt x="91806" y="0"/>
                </a:moveTo>
                <a:lnTo>
                  <a:pt x="91806" y="21600"/>
                </a:lnTo>
                <a:lnTo>
                  <a:pt x="90406" y="20200"/>
                </a:lnTo>
                <a:lnTo>
                  <a:pt x="90406" y="1400"/>
                </a:lnTo>
                <a:close/>
              </a:path>
              <a:path fill="darkenLess" w="91806" h="21600">
                <a:moveTo>
                  <a:pt x="91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406" y="20200"/>
                </a:lnTo>
                <a:close/>
              </a:path>
              <a:path fill="lighten" w="91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UHEC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起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5715000"/>
            <a:ext cx="2819520" cy="457200"/>
          </a:xfrm>
          <a:custGeom>
            <a:avLst/>
            <a:gdLst>
              <a:gd name="textAreaLeft" fmla="*/ 29520 w 2819520"/>
              <a:gd name="textAreaRight" fmla="*/ 2790000 w 2819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33118" h="21600">
                <a:moveTo>
                  <a:pt x="0" y="0"/>
                </a:moveTo>
                <a:lnTo>
                  <a:pt x="133118" y="0"/>
                </a:lnTo>
                <a:lnTo>
                  <a:pt x="133118" y="21600"/>
                </a:lnTo>
                <a:lnTo>
                  <a:pt x="0" y="21600"/>
                </a:lnTo>
                <a:close/>
              </a:path>
              <a:path fill="lightenLess" w="133118" h="21600">
                <a:moveTo>
                  <a:pt x="0" y="0"/>
                </a:moveTo>
                <a:lnTo>
                  <a:pt x="133118" y="0"/>
                </a:lnTo>
                <a:lnTo>
                  <a:pt x="131718" y="1400"/>
                </a:lnTo>
                <a:lnTo>
                  <a:pt x="1400" y="1400"/>
                </a:lnTo>
                <a:close/>
              </a:path>
              <a:path fill="darken" w="133118" h="21600">
                <a:moveTo>
                  <a:pt x="133118" y="0"/>
                </a:moveTo>
                <a:lnTo>
                  <a:pt x="133118" y="21600"/>
                </a:lnTo>
                <a:lnTo>
                  <a:pt x="131718" y="20200"/>
                </a:lnTo>
                <a:lnTo>
                  <a:pt x="131718" y="1400"/>
                </a:lnTo>
                <a:close/>
              </a:path>
              <a:path fill="darkenLess" w="133118" h="21600">
                <a:moveTo>
                  <a:pt x="133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18" y="20200"/>
                </a:lnTo>
                <a:close/>
              </a:path>
              <a:path fill="lighten" w="133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衝撃波加速以外の加速機構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5181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衝撃波変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5181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衝撃波角依存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6248520"/>
            <a:ext cx="2819520" cy="433440"/>
          </a:xfrm>
          <a:custGeom>
            <a:avLst/>
            <a:gdLst>
              <a:gd name="textAreaLeft" fmla="*/ 28080 w 2819520"/>
              <a:gd name="textAreaRight" fmla="*/ 2791440 w 28195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40409" h="21600">
                <a:moveTo>
                  <a:pt x="0" y="0"/>
                </a:moveTo>
                <a:lnTo>
                  <a:pt x="140409" y="0"/>
                </a:lnTo>
                <a:lnTo>
                  <a:pt x="140409" y="21600"/>
                </a:lnTo>
                <a:lnTo>
                  <a:pt x="0" y="21600"/>
                </a:lnTo>
                <a:close/>
              </a:path>
              <a:path fill="lightenLess" w="140409" h="21600">
                <a:moveTo>
                  <a:pt x="0" y="0"/>
                </a:moveTo>
                <a:lnTo>
                  <a:pt x="140409" y="0"/>
                </a:lnTo>
                <a:lnTo>
                  <a:pt x="139009" y="1400"/>
                </a:lnTo>
                <a:lnTo>
                  <a:pt x="1400" y="1400"/>
                </a:lnTo>
                <a:close/>
              </a:path>
              <a:path fill="darken" w="140409" h="21600">
                <a:moveTo>
                  <a:pt x="140409" y="0"/>
                </a:moveTo>
                <a:lnTo>
                  <a:pt x="140409" y="21600"/>
                </a:lnTo>
                <a:lnTo>
                  <a:pt x="139009" y="20200"/>
                </a:lnTo>
                <a:lnTo>
                  <a:pt x="139009" y="1400"/>
                </a:lnTo>
                <a:close/>
              </a:path>
              <a:path fill="darkenLess" w="140409" h="21600">
                <a:moveTo>
                  <a:pt x="140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9009" y="20200"/>
                </a:lnTo>
                <a:close/>
              </a:path>
              <a:path fill="lighten" w="140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大規模シミュレーショ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312408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imes New Roman"/>
              </a:rPr>
              <a:t>以下のボタンから各ファイルへのリンクは、コピーに際して外れてい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0" y="0"/>
          <a:ext cx="49910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9910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5410080" y="2514600"/>
            <a:ext cx="3505320" cy="3353040"/>
            <a:chOff x="5410080" y="2514600"/>
            <a:chExt cx="3505320" cy="3353040"/>
          </a:xfrm>
        </p:grpSpPr>
        <p:grpSp>
          <p:nvGrpSpPr>
            <p:cNvPr id="220" name=""/>
            <p:cNvGrpSpPr/>
            <p:nvPr/>
          </p:nvGrpSpPr>
          <p:grpSpPr>
            <a:xfrm>
              <a:off x="5410080" y="2971440"/>
              <a:ext cx="3505320" cy="2896200"/>
              <a:chOff x="5410080" y="2971440"/>
              <a:chExt cx="3505320" cy="2896200"/>
            </a:xfrm>
          </p:grpSpPr>
          <p:pic>
            <p:nvPicPr>
              <p:cNvPr id="22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0080" y="2971440"/>
                <a:ext cx="3505320" cy="253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5702760" y="5530320"/>
                <a:ext cx="290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Times New Roman"/>
                  </a:rPr>
                  <a:t>Svensmark, A&amp;G, 48, 1.18, 200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6628680" y="25146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雲と宇宙線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447920" y="1828800"/>
            <a:ext cx="3251160" cy="2057400"/>
            <a:chOff x="1447920" y="1828800"/>
            <a:chExt cx="3251160" cy="2057400"/>
          </a:xfrm>
        </p:grpSpPr>
        <p:grpSp>
          <p:nvGrpSpPr>
            <p:cNvPr id="225" name=""/>
            <p:cNvGrpSpPr/>
            <p:nvPr/>
          </p:nvGrpSpPr>
          <p:grpSpPr>
            <a:xfrm>
              <a:off x="1447920" y="2413080"/>
              <a:ext cx="3251160" cy="1473120"/>
              <a:chOff x="1447920" y="2413080"/>
              <a:chExt cx="3251160" cy="1473120"/>
            </a:xfrm>
          </p:grpSpPr>
          <p:sp>
            <p:nvSpPr>
              <p:cNvPr id="226" name=""/>
              <p:cNvSpPr/>
              <p:nvPr/>
            </p:nvSpPr>
            <p:spPr>
              <a:xfrm>
                <a:off x="3353040" y="3657600"/>
                <a:ext cx="990360" cy="2286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581640" y="3124080"/>
                <a:ext cx="609480" cy="3812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822840" y="3467160"/>
                <a:ext cx="876240" cy="1904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47920" y="2413080"/>
                <a:ext cx="914400" cy="2109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333520" y="18288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宇宙線関係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952880" y="0"/>
            <a:ext cx="4190760" cy="2444760"/>
            <a:chOff x="4952880" y="0"/>
            <a:chExt cx="4190760" cy="2444760"/>
          </a:xfrm>
        </p:grpSpPr>
        <p:pic>
          <p:nvPicPr>
            <p:cNvPr id="232" name="" descr=""/>
            <p:cNvPicPr/>
            <p:nvPr/>
          </p:nvPicPr>
          <p:blipFill>
            <a:blip r:embed="rId4"/>
            <a:srcRect l="0" t="0" r="0" b="45471"/>
            <a:stretch/>
          </p:blipFill>
          <p:spPr>
            <a:xfrm>
              <a:off x="4952880" y="457200"/>
              <a:ext cx="41907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168240" y="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宇宙線と環境問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88640" y="457200"/>
              <a:ext cx="135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imes New Roman"/>
                </a:rPr>
                <a:t>地球環境変動への影響？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6805440" y="6477120"/>
            <a:ext cx="1067040" cy="304560"/>
          </a:xfrm>
          <a:custGeom>
            <a:avLst/>
            <a:gdLst>
              <a:gd name="textAreaLeft" fmla="*/ 19440 w 1067040"/>
              <a:gd name="textAreaRight" fmla="*/ 1047600 w 10670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5613" h="21600">
                <a:moveTo>
                  <a:pt x="0" y="0"/>
                </a:moveTo>
                <a:lnTo>
                  <a:pt x="75613" y="0"/>
                </a:lnTo>
                <a:lnTo>
                  <a:pt x="75613" y="21600"/>
                </a:lnTo>
                <a:lnTo>
                  <a:pt x="0" y="21600"/>
                </a:lnTo>
                <a:close/>
              </a:path>
              <a:path fill="lightenLess" w="75613" h="21600">
                <a:moveTo>
                  <a:pt x="0" y="0"/>
                </a:moveTo>
                <a:lnTo>
                  <a:pt x="75613" y="0"/>
                </a:lnTo>
                <a:lnTo>
                  <a:pt x="74213" y="1400"/>
                </a:lnTo>
                <a:lnTo>
                  <a:pt x="1400" y="1400"/>
                </a:lnTo>
                <a:close/>
              </a:path>
              <a:path fill="darken" w="75613" h="21600">
                <a:moveTo>
                  <a:pt x="75613" y="0"/>
                </a:moveTo>
                <a:lnTo>
                  <a:pt x="75613" y="21600"/>
                </a:lnTo>
                <a:lnTo>
                  <a:pt x="74213" y="20200"/>
                </a:lnTo>
                <a:lnTo>
                  <a:pt x="74213" y="1400"/>
                </a:lnTo>
                <a:close/>
              </a:path>
              <a:path fill="darkenLess" w="75613" h="21600">
                <a:moveTo>
                  <a:pt x="75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13" y="20200"/>
                </a:lnTo>
                <a:close/>
              </a:path>
              <a:path fill="lighten" w="75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24760" y="6477120"/>
            <a:ext cx="1042920" cy="304560"/>
          </a:xfrm>
          <a:custGeom>
            <a:avLst/>
            <a:gdLst>
              <a:gd name="textAreaLeft" fmla="*/ 19440 w 1042920"/>
              <a:gd name="textAreaRight" fmla="*/ 1023480 w 1042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3904" h="21600">
                <a:moveTo>
                  <a:pt x="0" y="0"/>
                </a:moveTo>
                <a:lnTo>
                  <a:pt x="73904" y="0"/>
                </a:lnTo>
                <a:lnTo>
                  <a:pt x="73904" y="21600"/>
                </a:lnTo>
                <a:lnTo>
                  <a:pt x="0" y="21600"/>
                </a:lnTo>
                <a:close/>
              </a:path>
              <a:path fill="lightenLess" w="73904" h="21600">
                <a:moveTo>
                  <a:pt x="0" y="0"/>
                </a:moveTo>
                <a:lnTo>
                  <a:pt x="73904" y="0"/>
                </a:lnTo>
                <a:lnTo>
                  <a:pt x="72504" y="1400"/>
                </a:lnTo>
                <a:lnTo>
                  <a:pt x="1400" y="1400"/>
                </a:lnTo>
                <a:close/>
              </a:path>
              <a:path fill="darken" w="73904" h="21600">
                <a:moveTo>
                  <a:pt x="73904" y="0"/>
                </a:moveTo>
                <a:lnTo>
                  <a:pt x="73904" y="21600"/>
                </a:lnTo>
                <a:lnTo>
                  <a:pt x="72504" y="20200"/>
                </a:lnTo>
                <a:lnTo>
                  <a:pt x="72504" y="1400"/>
                </a:lnTo>
                <a:close/>
              </a:path>
              <a:path fill="darkenLess" w="73904" h="21600">
                <a:moveTo>
                  <a:pt x="73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04" y="20200"/>
                </a:lnTo>
                <a:close/>
              </a:path>
              <a:path fill="lighten" w="73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7920" y="5105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Who ordered UHECR?’ said M. Fukushi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3716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「加速」 —宇宙線の起源—の理解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宇宙の物理的解明にとって本質的だろう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21280" y="38088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 Unicode MS"/>
              </a:rPr>
              <a:t>粒子加速と伝播：プラズマ物理と宇宙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37040" y="259092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福島さん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一節をお借りし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676520" y="2514600"/>
            <a:ext cx="7110360" cy="2286000"/>
            <a:chOff x="1676520" y="2514600"/>
            <a:chExt cx="7110360" cy="2286000"/>
          </a:xfrm>
        </p:grpSpPr>
        <p:sp>
          <p:nvSpPr>
            <p:cNvPr id="48" name=""/>
            <p:cNvSpPr/>
            <p:nvPr/>
          </p:nvSpPr>
          <p:spPr>
            <a:xfrm>
              <a:off x="1676520" y="3581280"/>
              <a:ext cx="586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 ‘</a:t>
              </a: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Who ordered muon?’ said I. Rabi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7086600" y="2514600"/>
              <a:ext cx="170028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59040" y="304920"/>
            <a:ext cx="11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原理そ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59040" y="990720"/>
            <a:ext cx="6167880" cy="1492200"/>
            <a:chOff x="959040" y="990720"/>
            <a:chExt cx="6167880" cy="1492200"/>
          </a:xfrm>
        </p:grpSpPr>
        <p:graphicFrame>
          <p:nvGraphicFramePr>
            <p:cNvPr id="52" name=""/>
            <p:cNvGraphicFramePr/>
            <p:nvPr/>
          </p:nvGraphicFramePr>
          <p:xfrm>
            <a:off x="2743200" y="1523880"/>
            <a:ext cx="2787480" cy="959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1523880"/>
                      <a:ext cx="278748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959040" y="990720"/>
              <a:ext cx="113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原理その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97960" y="990720"/>
              <a:ext cx="382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電磁場のローレンツ変換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ローレンツ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" name=""/>
          <p:cNvGraphicFramePr/>
          <p:nvPr/>
        </p:nvGraphicFramePr>
        <p:xfrm>
          <a:off x="2514600" y="103320"/>
          <a:ext cx="3746520" cy="8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03320"/>
                    <a:ext cx="37465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762120" y="1523880"/>
            <a:ext cx="7619760" cy="5176800"/>
            <a:chOff x="762120" y="1523880"/>
            <a:chExt cx="7619760" cy="5176800"/>
          </a:xfrm>
        </p:grpSpPr>
        <p:grpSp>
          <p:nvGrpSpPr>
            <p:cNvPr id="59" name=""/>
            <p:cNvGrpSpPr/>
            <p:nvPr/>
          </p:nvGrpSpPr>
          <p:grpSpPr>
            <a:xfrm>
              <a:off x="762120" y="2585880"/>
              <a:ext cx="7619760" cy="4114800"/>
              <a:chOff x="762120" y="2585880"/>
              <a:chExt cx="7619760" cy="4114800"/>
            </a:xfrm>
          </p:grpSpPr>
          <p:sp>
            <p:nvSpPr>
              <p:cNvPr id="60" name=""/>
              <p:cNvSpPr/>
              <p:nvPr/>
            </p:nvSpPr>
            <p:spPr>
              <a:xfrm>
                <a:off x="762120" y="2585880"/>
                <a:ext cx="7619760" cy="411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1" name=""/>
              <p:cNvGraphicFramePr/>
              <p:nvPr/>
            </p:nvGraphicFramePr>
            <p:xfrm>
              <a:off x="1371600" y="3119400"/>
              <a:ext cx="5943600" cy="11034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71600" y="3119400"/>
                        <a:ext cx="5943600" cy="1103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3" name=""/>
              <p:cNvSpPr/>
              <p:nvPr/>
            </p:nvSpPr>
            <p:spPr>
              <a:xfrm>
                <a:off x="1567440" y="2662200"/>
                <a:ext cx="219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Times New Roman"/>
                  </a:rPr>
                  <a:t>サイクロトロン共鳴条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4" name=""/>
              <p:cNvGraphicFramePr/>
              <p:nvPr/>
            </p:nvGraphicFramePr>
            <p:xfrm>
              <a:off x="2819520" y="4110120"/>
              <a:ext cx="3611520" cy="431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6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819520" y="4110120"/>
                        <a:ext cx="3611520" cy="431640"/>
                      </a:xfrm>
                      <a:prstGeom prst="rect">
                        <a:avLst/>
                      </a:prstGeom>
                      <a:ln w="9360">
                        <a:solidFill>
                          <a:srgbClr val="ff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6" name=""/>
              <p:cNvGraphicFramePr/>
              <p:nvPr/>
            </p:nvGraphicFramePr>
            <p:xfrm>
              <a:off x="2209680" y="4719600"/>
              <a:ext cx="4572000" cy="10209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6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209680" y="4719600"/>
                        <a:ext cx="4572000" cy="102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8" name=""/>
              <p:cNvGraphicFramePr/>
              <p:nvPr/>
            </p:nvGraphicFramePr>
            <p:xfrm>
              <a:off x="2895480" y="5791320"/>
              <a:ext cx="3124440" cy="8427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69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895480" y="5791320"/>
                        <a:ext cx="3124440" cy="84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70" name=""/>
            <p:cNvGrpSpPr/>
            <p:nvPr/>
          </p:nvGrpSpPr>
          <p:grpSpPr>
            <a:xfrm>
              <a:off x="3429000" y="1523880"/>
              <a:ext cx="2057400" cy="1067040"/>
              <a:chOff x="3429000" y="1523880"/>
              <a:chExt cx="2057400" cy="1067040"/>
            </a:xfrm>
          </p:grpSpPr>
          <p:sp>
            <p:nvSpPr>
              <p:cNvPr id="71" name=""/>
              <p:cNvSpPr/>
              <p:nvPr/>
            </p:nvSpPr>
            <p:spPr>
              <a:xfrm>
                <a:off x="4267080" y="1523880"/>
                <a:ext cx="1219320" cy="99072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3429000" y="2286000"/>
                <a:ext cx="91440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>
            <a:off x="6144480" y="586728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Hillas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324480" y="1600200"/>
          <a:ext cx="1371600" cy="78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4480" y="1600200"/>
                    <a:ext cx="1371600" cy="787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609480" y="304920"/>
            <a:ext cx="6998400" cy="1524960"/>
            <a:chOff x="609480" y="304920"/>
            <a:chExt cx="6998400" cy="1524960"/>
          </a:xfrm>
        </p:grpSpPr>
        <p:graphicFrame>
          <p:nvGraphicFramePr>
            <p:cNvPr id="77" name=""/>
            <p:cNvGraphicFramePr/>
            <p:nvPr/>
          </p:nvGraphicFramePr>
          <p:xfrm>
            <a:off x="609480" y="761760"/>
            <a:ext cx="1676520" cy="106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761760"/>
                      <a:ext cx="1676520" cy="106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4062240" y="990360"/>
              <a:ext cx="354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→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プランクエネルギーのとき、</a:t>
              </a:r>
              <a:r>
                <a:rPr b="0" i="1" lang="ja-JP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→プランク長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2320" y="304920"/>
              <a:ext cx="26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原理その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1 (rephrase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1" name=""/>
          <p:cNvGraphicFramePr/>
          <p:nvPr/>
        </p:nvGraphicFramePr>
        <p:xfrm>
          <a:off x="533520" y="2286000"/>
          <a:ext cx="236196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0"/>
                    <a:ext cx="23619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048120" y="2438280"/>
            <a:ext cx="51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H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乱流があれば、必ず非熱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粒子が生ま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2320" y="182880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原理そ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 (rephra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8680" y="4343400"/>
            <a:ext cx="33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ただし、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磁場・乱流があるこ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加速の種があるこ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286000" y="4724280"/>
            <a:ext cx="3657600" cy="1450440"/>
            <a:chOff x="2286000" y="4724280"/>
            <a:chExt cx="3657600" cy="1450440"/>
          </a:xfrm>
        </p:grpSpPr>
        <p:sp>
          <p:nvSpPr>
            <p:cNvPr id="87" name=""/>
            <p:cNvSpPr/>
            <p:nvPr/>
          </p:nvSpPr>
          <p:spPr>
            <a:xfrm>
              <a:off x="2286000" y="4724280"/>
              <a:ext cx="3657600" cy="838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32520" y="5715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</a:rPr>
                <a:t>宇宙プラズマ物理学の課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85800" y="36576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Who ordered UHECR?’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答え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36720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神仏のなせる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97560" y="152280"/>
            <a:ext cx="55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宇宙線の起源の解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　…これまでにプラズマ物理学の果たした役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62920" y="1235160"/>
            <a:ext cx="61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lfve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波（電磁流体力学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ermi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加速の概念（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lfve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波の電磁相互作用＋統計性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533520"/>
          <a:ext cx="8158320" cy="845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33520"/>
                    <a:ext cx="8158320" cy="845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32200" y="0"/>
            <a:ext cx="29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lfve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氏追悼記事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32200" y="0"/>
            <a:ext cx="29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lfve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氏追悼記事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200" y="533520"/>
            <a:ext cx="8458200" cy="6019560"/>
            <a:chOff x="457200" y="533520"/>
            <a:chExt cx="8458200" cy="6019560"/>
          </a:xfrm>
        </p:grpSpPr>
        <p:sp>
          <p:nvSpPr>
            <p:cNvPr id="98" name=""/>
            <p:cNvSpPr/>
            <p:nvPr/>
          </p:nvSpPr>
          <p:spPr>
            <a:xfrm>
              <a:off x="457200" y="533520"/>
              <a:ext cx="8458200" cy="601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600200" y="762120"/>
              <a:ext cx="5517720" cy="5562000"/>
              <a:chOff x="1600200" y="762120"/>
              <a:chExt cx="5517720" cy="5562000"/>
            </a:xfrm>
          </p:grpSpPr>
          <p:sp>
            <p:nvSpPr>
              <p:cNvPr id="100" name=""/>
              <p:cNvSpPr/>
              <p:nvPr/>
            </p:nvSpPr>
            <p:spPr>
              <a:xfrm>
                <a:off x="4173480" y="2793960"/>
                <a:ext cx="5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0" lang="ja-JP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600200" y="762120"/>
                <a:ext cx="5517720" cy="5562000"/>
                <a:chOff x="1600200" y="762120"/>
                <a:chExt cx="5517720" cy="5562000"/>
              </a:xfrm>
            </p:grpSpPr>
            <p:graphicFrame>
              <p:nvGraphicFramePr>
                <p:cNvPr id="102" name=""/>
                <p:cNvGraphicFramePr/>
                <p:nvPr/>
              </p:nvGraphicFramePr>
              <p:xfrm>
                <a:off x="1671840" y="762120"/>
                <a:ext cx="5446080" cy="21826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03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671840" y="762120"/>
                          <a:ext cx="5446080" cy="2182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4" name=""/>
                <p:cNvGraphicFramePr/>
                <p:nvPr/>
              </p:nvGraphicFramePr>
              <p:xfrm>
                <a:off x="1600200" y="3196800"/>
                <a:ext cx="5428440" cy="31273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05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600200" y="3196800"/>
                          <a:ext cx="5428440" cy="3127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106" name=""/>
          <p:cNvSpPr/>
          <p:nvPr/>
        </p:nvSpPr>
        <p:spPr>
          <a:xfrm>
            <a:off x="1523880" y="4521240"/>
            <a:ext cx="5639040" cy="1752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97560" y="152280"/>
            <a:ext cx="55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宇宙線の起源の解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　…これまでにプラズマ物理学の果たした役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62920" y="1235160"/>
            <a:ext cx="61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lfve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波（電磁流体力学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ermi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加速の概念（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lfve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波の電磁相互作用＋統計性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43000" y="2514600"/>
            <a:ext cx="3551040" cy="4343400"/>
            <a:chOff x="243000" y="2514600"/>
            <a:chExt cx="3551040" cy="4343400"/>
          </a:xfrm>
        </p:grpSpPr>
        <p:graphicFrame>
          <p:nvGraphicFramePr>
            <p:cNvPr id="110" name=""/>
            <p:cNvGraphicFramePr/>
            <p:nvPr/>
          </p:nvGraphicFramePr>
          <p:xfrm>
            <a:off x="243000" y="2743200"/>
            <a:ext cx="3551040" cy="411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000" y="2743200"/>
                      <a:ext cx="3551040" cy="411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1078560" y="2514600"/>
              <a:ext cx="21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Cosmic ray energy spectr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28600" y="2209680"/>
            <a:ext cx="8164080" cy="1313280"/>
            <a:chOff x="228600" y="2209680"/>
            <a:chExt cx="8164080" cy="1313280"/>
          </a:xfrm>
        </p:grpSpPr>
        <p:sp>
          <p:nvSpPr>
            <p:cNvPr id="114" name=""/>
            <p:cNvSpPr/>
            <p:nvPr/>
          </p:nvSpPr>
          <p:spPr>
            <a:xfrm>
              <a:off x="228600" y="2209680"/>
              <a:ext cx="1295640" cy="12189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5960" y="2819160"/>
              <a:ext cx="381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Parker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ほかによる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solar modulation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研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(1958: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太陽風理論に続き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年代半ばまで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1600200" y="2895120"/>
              <a:ext cx="23623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230720" y="3581280"/>
            <a:ext cx="491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代末に衝撃波統計加速（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DSA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）理論が完成してもよかった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道具立ては出揃った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。しかし、まだ期が熟していなかっ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4680" y="4648320"/>
            <a:ext cx="4865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978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DSA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理論の提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　　　（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Axford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他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, Bell, Blandford&amp;Ostriker, Toptyg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5470560"/>
            <a:ext cx="44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977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～ 同時進行した無衝突衝撃波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研究の急速な進展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ISEE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衛星群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26160" y="623268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計算機シミュレーション技法の発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75960" y="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日本における衝撃波加速研究小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04840" y="609480"/>
            <a:ext cx="32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970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代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夜明け前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 …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自前のデータなし、弱小計算機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48800" y="990720"/>
            <a:ext cx="313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979 …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宇宙線国際会議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Kyot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日本の宇宙線業界における「衝撃波加速」概念の存在の認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2280" y="1676520"/>
            <a:ext cx="34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980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代前半までの日本の無衝突衝撃波研究者はほんの一握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ISAS:TT,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羽田、星野  富山大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坂井、ほか大沢さんなど核融合系数人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　　　宇宙線研（田無）にて、加速の勉強会数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17440" y="3200400"/>
            <a:ext cx="71136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986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ハレー彗星ミッション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SUIS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Geotail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につながるプラズマ計測技法の獲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彗星起源イオン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, OH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,O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など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ピッチ角散乱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サイクロトロン共鳴の絵解き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10720" y="4191120"/>
            <a:ext cx="429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992 Geotail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衛星プラズマ・電磁場データ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世界水準を一挙に達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向井利典氏の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代初めからの努力の結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当初はロケットによる電離層イオンの観測か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6080" y="5867280"/>
            <a:ext cx="63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995  Koyama et al. 1995 Nature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論文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SN1006 as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非熱的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線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25760" y="53341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994.2.21 interplanetary shock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観測…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電子衝撃波加速、非線形衝撃波の存在証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2320" y="2743200"/>
            <a:ext cx="76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983-4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高原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+TT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： 野辺山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45m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による超新星残骸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CasA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観測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foreshock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厚み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7:20:18Z</dcterms:created>
  <dc:creator>tt</dc:creator>
  <dc:description/>
  <dc:language>en-US</dc:language>
  <cp:lastModifiedBy>tt</cp:lastModifiedBy>
  <dcterms:modified xsi:type="dcterms:W3CDTF">2008-12-24T22:06:43Z</dcterms:modified>
  <cp:revision>187</cp:revision>
  <dc:subject/>
  <dc:title>PowerPoint プレゼンテーション</dc:title>
</cp:coreProperties>
</file>