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F59-4821-4BF1-83FF-7B65A779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685-66A4-4130-BB39-7FBD24E6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636-9BE3-4B05-9C5B-7C3AFE54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199-DE3F-4238-BF87-DAAD5A3F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0F5-604C-4AAD-9CE0-07CD4453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D2E-6626-4E74-B4A8-0829294E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EA5-8DCC-41FF-998F-2A63F739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932-E931-4789-940D-7BCFAE20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D5B-97E4-41CA-B9CF-5922DC72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91B-F17F-4070-826F-C81C6A0C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86A-CB46-4687-A2F3-0C3C5E39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D90-3C4A-4FD0-B116-9B986831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1431-C4FA-4A0C-B5FE-68C14510CF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eotailSWobs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GeotailSWob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1012680"/>
          <a:ext cx="716292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12680"/>
                    <a:ext cx="716292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09480" y="5519880"/>
          <a:ext cx="609624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519880"/>
                    <a:ext cx="609624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566600" y="167652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ffusive shock accel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2920" y="63244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657240" y="2057400"/>
            <a:ext cx="152388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0960" y="311040"/>
            <a:ext cx="582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衝撃波加速の観測的証明…太陽フレアに伴う衝撃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ow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057400"/>
            <a:ext cx="137160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838080" y="1012680"/>
          <a:ext cx="716292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12680"/>
                    <a:ext cx="716292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09480" y="5519880"/>
          <a:ext cx="609624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519880"/>
                    <a:ext cx="609624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66600" y="167652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ffusive shock accel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3244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657240" y="2057400"/>
            <a:ext cx="152388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7080" y="311040"/>
            <a:ext cx="582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衝撃波加速の観測的証明…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太陽フレアに伴う衝撃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ow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2057400"/>
            <a:ext cx="137160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01680" y="1752480"/>
            <a:ext cx="8841960" cy="5105520"/>
            <a:chOff x="301680" y="1752480"/>
            <a:chExt cx="8841960" cy="5105520"/>
          </a:xfrm>
        </p:grpSpPr>
        <p:grpSp>
          <p:nvGrpSpPr>
            <p:cNvPr id="60" name=""/>
            <p:cNvGrpSpPr/>
            <p:nvPr/>
          </p:nvGrpSpPr>
          <p:grpSpPr>
            <a:xfrm>
              <a:off x="301680" y="1752480"/>
              <a:ext cx="8841960" cy="5105520"/>
              <a:chOff x="301680" y="1752480"/>
              <a:chExt cx="8841960" cy="5105520"/>
            </a:xfrm>
          </p:grpSpPr>
          <p:pic>
            <p:nvPicPr>
              <p:cNvPr id="61" name="IPS_imfSW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1760" y="1752480"/>
                <a:ext cx="7121880" cy="510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832840" y="20487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磁場強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1680" y="3014640"/>
                <a:ext cx="132012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磁場経度角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度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太陽方向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度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反太陽方向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5720" y="4118400"/>
                <a:ext cx="1008360" cy="85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磁場緯度角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+90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度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北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-90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度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南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832840" y="50875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太陽風速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430160" y="1952280"/>
                <a:ext cx="1921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衝撃波到着 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09:03:21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 flipV="1">
              <a:off x="5334120" y="220896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2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EOTAI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衛星にとって初めての惑星間空間衝撃波観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57913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速度のジャンプ～</a:t>
            </a: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400km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867400" y="2438280"/>
            <a:ext cx="2466720" cy="337320"/>
            <a:chOff x="2867400" y="2438280"/>
            <a:chExt cx="2466720" cy="337320"/>
          </a:xfrm>
        </p:grpSpPr>
        <p:sp>
          <p:nvSpPr>
            <p:cNvPr id="71" name=""/>
            <p:cNvSpPr/>
            <p:nvPr/>
          </p:nvSpPr>
          <p:spPr>
            <a:xfrm>
              <a:off x="4876920" y="259056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67400" y="2438280"/>
              <a:ext cx="172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Times New Roman"/>
                </a:rPr>
                <a:t>磁場強度のジャンプ～</a:t>
              </a:r>
              <a:r>
                <a:rPr b="1" lang="ja-JP" sz="1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ja-JP" sz="1600" spc="-1" strike="noStrike">
                  <a:solidFill>
                    <a:srgbClr val="ff0000"/>
                  </a:solidFill>
                  <a:latin typeface="Times New Roman"/>
                </a:rPr>
                <a:t>倍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47920" y="1219320"/>
            <a:ext cx="6705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約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時間前の太陽フレアに伴って放出され、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1AU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に到達し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335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までの観測史上、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番目に被加速陽子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&gt;10MeV)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のフラックスが大きかった衝撃波。地球に磁気嵐を引き起こし、放送衛星に軽度の障害を与えた。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アルフェンマッハ数～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11480" y="5029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上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40480" y="495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下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速度空間分布関数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(V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実測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太陽風陽子・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粒子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/>
          </p:cNvPr>
          <p:cNvSpPr/>
          <p:nvPr/>
        </p:nvSpPr>
        <p:spPr>
          <a:xfrm>
            <a:off x="320040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4114800" y="6172200"/>
            <a:ext cx="2057400" cy="357120"/>
          </a:xfrm>
          <a:custGeom>
            <a:avLst/>
            <a:gdLst>
              <a:gd name="textAreaLeft" fmla="*/ 23040 w 2057400"/>
              <a:gd name="textAreaRight" fmla="*/ 2034360 w 2057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124336" h="21600">
                <a:moveTo>
                  <a:pt x="0" y="0"/>
                </a:moveTo>
                <a:lnTo>
                  <a:pt x="124336" y="0"/>
                </a:lnTo>
                <a:lnTo>
                  <a:pt x="124336" y="21600"/>
                </a:lnTo>
                <a:lnTo>
                  <a:pt x="0" y="21600"/>
                </a:lnTo>
                <a:close/>
              </a:path>
              <a:path fill="lightenLess" w="124336" h="21600">
                <a:moveTo>
                  <a:pt x="0" y="0"/>
                </a:moveTo>
                <a:lnTo>
                  <a:pt x="124336" y="0"/>
                </a:lnTo>
                <a:lnTo>
                  <a:pt x="122936" y="1400"/>
                </a:lnTo>
                <a:lnTo>
                  <a:pt x="1400" y="1400"/>
                </a:lnTo>
                <a:close/>
              </a:path>
              <a:path fill="darken" w="124336" h="21600">
                <a:moveTo>
                  <a:pt x="124336" y="0"/>
                </a:moveTo>
                <a:lnTo>
                  <a:pt x="124336" y="21600"/>
                </a:lnTo>
                <a:lnTo>
                  <a:pt x="122936" y="20200"/>
                </a:lnTo>
                <a:lnTo>
                  <a:pt x="122936" y="1400"/>
                </a:lnTo>
                <a:close/>
              </a:path>
              <a:path fill="darkenLess" w="124336" h="21600">
                <a:moveTo>
                  <a:pt x="124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936" y="20200"/>
                </a:lnTo>
                <a:close/>
              </a:path>
              <a:path fill="lighten" w="124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4336" h="21600">
                <a:moveTo>
                  <a:pt x="55161" y="3794"/>
                </a:moveTo>
                <a:lnTo>
                  <a:pt x="69174" y="10800"/>
                </a:lnTo>
                <a:lnTo>
                  <a:pt x="5516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　　　下流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98920" y="685800"/>
            <a:ext cx="6995880" cy="5442840"/>
            <a:chOff x="1798920" y="685800"/>
            <a:chExt cx="6995880" cy="5442840"/>
          </a:xfrm>
        </p:grpSpPr>
        <p:grpSp>
          <p:nvGrpSpPr>
            <p:cNvPr id="81" name=""/>
            <p:cNvGrpSpPr/>
            <p:nvPr/>
          </p:nvGrpSpPr>
          <p:grpSpPr>
            <a:xfrm>
              <a:off x="1798920" y="685800"/>
              <a:ext cx="6995880" cy="5442840"/>
              <a:chOff x="1798920" y="685800"/>
              <a:chExt cx="6995880" cy="544284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2787840" y="685800"/>
                <a:ext cx="6006960" cy="5369040"/>
                <a:chOff x="2787840" y="685800"/>
                <a:chExt cx="6006960" cy="5369040"/>
              </a:xfrm>
            </p:grpSpPr>
            <p:pic>
              <p:nvPicPr>
                <p:cNvPr id="83" name="IPSupstream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7840" y="685800"/>
                  <a:ext cx="6006960" cy="536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>
                  <a:off x="5383440" y="1066680"/>
                  <a:ext cx="2646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</a:rPr>
                    <a:t>衝撃波</a:t>
                  </a:r>
                  <a:r>
                    <a:rPr b="1" lang="ja-JP" sz="1800" spc="-1" strike="noStrike">
                      <a:solidFill>
                        <a:srgbClr val="ff0000"/>
                      </a:solidFill>
                      <a:latin typeface="Times New Roman"/>
                    </a:rPr>
                    <a:t>上流</a:t>
                  </a: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</a:rPr>
                    <a:t>側 </a:t>
                  </a: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</a:rPr>
                    <a:t>08:50:11</a:t>
                  </a: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</a:rPr>
                    <a:t>分間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802160" y="1676520"/>
                <a:ext cx="955080" cy="110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1D cu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log</a:t>
                </a:r>
                <a:r>
                  <a:rPr b="0" i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 f</a:t>
                </a:r>
                <a:r>
                  <a:rPr b="0" i="1" lang="ja-JP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(V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ja-JP" sz="2800" spc="-1" strike="noStrike">
                    <a:solidFill>
                      <a:srgbClr val="000000"/>
                    </a:solidFill>
                    <a:latin typeface="Times New Roman"/>
                  </a:rPr>
                  <a:t>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98920" y="40384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ff"/>
                    </a:solidFill>
                    <a:latin typeface="Times New Roman"/>
                  </a:rPr>
                  <a:t>one cou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ff"/>
                    </a:solidFill>
                    <a:latin typeface="Times New Roman"/>
                  </a:rPr>
                  <a:t>    </a:t>
                </a:r>
                <a:r>
                  <a:rPr b="0" lang="ja-JP" sz="1600" spc="-1" strike="noStrike">
                    <a:solidFill>
                      <a:srgbClr val="0000ff"/>
                    </a:solidFill>
                    <a:latin typeface="Times New Roman"/>
                  </a:rPr>
                  <a:t>lev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265640" y="4267080"/>
                <a:ext cx="58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α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粒子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786080" y="449568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Times New Roman"/>
                  </a:rPr>
                  <a:t>→</a:t>
                </a:r>
                <a:r>
                  <a:rPr b="0" lang="ja-JP" sz="1600" spc="-1" strike="noStrike">
                    <a:solidFill>
                      <a:srgbClr val="000000"/>
                    </a:solidFill>
                    <a:latin typeface="Times New Roman"/>
                  </a:rPr>
                  <a:t>反太陽方向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869600" y="1523880"/>
                <a:ext cx="79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Times New Roman"/>
                  </a:rPr>
                  <a:t>子午面断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793280" y="3429000"/>
                <a:ext cx="79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Times New Roman"/>
                  </a:rPr>
                  <a:t>赤道面断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50120" y="5791320"/>
                <a:ext cx="121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Times New Roman"/>
                  </a:rPr>
                  <a:t>速度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Times New Roman"/>
                  </a:rPr>
                  <a:t>*sqrt(M/q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86840" y="213372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陽子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492000" y="2438280"/>
                <a:ext cx="105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～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550km/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PlaceHolder 2"/>
              <p:cNvSpPr>
                <a:spLocks noGrp="1"/>
              </p:cNvSpPr>
              <p:nvPr>
                <p:ph type="subTitle"/>
              </p:nvPr>
            </p:nvSpPr>
            <p:spPr>
              <a:xfrm>
                <a:off x="2787480" y="5562720"/>
                <a:ext cx="6922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97520" y="5562720"/>
                <a:ext cx="9144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12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57600" y="5791320"/>
                <a:ext cx="61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Km/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flipV="1">
              <a:off x="2559240" y="4267080"/>
              <a:ext cx="7621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743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40320" y="3049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eV/q~8keV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1066680"/>
            <a:ext cx="1676520" cy="2134440"/>
            <a:chOff x="0" y="1066680"/>
            <a:chExt cx="1676520" cy="2134440"/>
          </a:xfrm>
        </p:grpSpPr>
        <p:sp>
          <p:nvSpPr>
            <p:cNvPr id="101" name=""/>
            <p:cNvSpPr/>
            <p:nvPr/>
          </p:nvSpPr>
          <p:spPr>
            <a:xfrm>
              <a:off x="0" y="2133720"/>
              <a:ext cx="1676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緯度方向に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つのセンサーを持ち、エネルギー方向の掃引は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ミリ秒ごと。一方、衛星のスピン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秒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を用いて経度方向の掃引を行っている。 こうして得られた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次元分布関数は、テレメトリ容量の関係で、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秒間機上で積分された後、地上に送られる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00" y="1066680"/>
              <a:ext cx="134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GEOTAIL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搭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静電型分析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によ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速度空間分布関数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(V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実測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太陽風陽子・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粒子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/>
          </p:cNvPr>
          <p:cNvSpPr/>
          <p:nvPr/>
        </p:nvSpPr>
        <p:spPr>
          <a:xfrm>
            <a:off x="3200400" y="61722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7301"/>
                </a:moveTo>
                <a:lnTo>
                  <a:pt x="17659" y="7301"/>
                </a:lnTo>
                <a:lnTo>
                  <a:pt x="18042" y="7667"/>
                </a:lnTo>
                <a:lnTo>
                  <a:pt x="27251" y="7667"/>
                </a:lnTo>
                <a:lnTo>
                  <a:pt x="27808" y="8224"/>
                </a:lnTo>
                <a:lnTo>
                  <a:pt x="27808" y="8772"/>
                </a:lnTo>
                <a:lnTo>
                  <a:pt x="29653" y="8772"/>
                </a:lnTo>
                <a:lnTo>
                  <a:pt x="30019" y="8224"/>
                </a:lnTo>
                <a:lnTo>
                  <a:pt x="30758" y="8224"/>
                </a:lnTo>
                <a:lnTo>
                  <a:pt x="30758" y="13376"/>
                </a:lnTo>
                <a:lnTo>
                  <a:pt x="30019" y="13376"/>
                </a:lnTo>
                <a:lnTo>
                  <a:pt x="29653" y="12828"/>
                </a:lnTo>
                <a:lnTo>
                  <a:pt x="27808" y="12828"/>
                </a:lnTo>
                <a:lnTo>
                  <a:pt x="27808" y="14107"/>
                </a:lnTo>
                <a:lnTo>
                  <a:pt x="18225" y="14107"/>
                </a:lnTo>
                <a:lnTo>
                  <a:pt x="18225" y="9877"/>
                </a:lnTo>
                <a:lnTo>
                  <a:pt x="18042" y="9877"/>
                </a:lnTo>
                <a:lnTo>
                  <a:pt x="17659" y="10243"/>
                </a:lnTo>
                <a:lnTo>
                  <a:pt x="16745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4114800" y="6172200"/>
            <a:ext cx="2133720" cy="380880"/>
          </a:xfrm>
          <a:custGeom>
            <a:avLst/>
            <a:gdLst>
              <a:gd name="textAreaLeft" fmla="*/ 24480 w 2133720"/>
              <a:gd name="textAreaRight" fmla="*/ 2109240 w 2133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911" h="21600">
                <a:moveTo>
                  <a:pt x="0" y="0"/>
                </a:moveTo>
                <a:lnTo>
                  <a:pt x="120911" y="0"/>
                </a:lnTo>
                <a:lnTo>
                  <a:pt x="120911" y="21600"/>
                </a:lnTo>
                <a:lnTo>
                  <a:pt x="0" y="21600"/>
                </a:lnTo>
                <a:close/>
              </a:path>
              <a:path fill="lightenLess" w="120911" h="21600">
                <a:moveTo>
                  <a:pt x="0" y="0"/>
                </a:moveTo>
                <a:lnTo>
                  <a:pt x="120911" y="0"/>
                </a:lnTo>
                <a:lnTo>
                  <a:pt x="119511" y="1400"/>
                </a:lnTo>
                <a:lnTo>
                  <a:pt x="1400" y="1400"/>
                </a:lnTo>
                <a:close/>
              </a:path>
              <a:path fill="darken" w="120911" h="21600">
                <a:moveTo>
                  <a:pt x="120911" y="0"/>
                </a:moveTo>
                <a:lnTo>
                  <a:pt x="120911" y="21600"/>
                </a:lnTo>
                <a:lnTo>
                  <a:pt x="119511" y="20200"/>
                </a:lnTo>
                <a:lnTo>
                  <a:pt x="119511" y="1400"/>
                </a:lnTo>
                <a:close/>
              </a:path>
              <a:path fill="darkenLess" w="120911" h="21600">
                <a:moveTo>
                  <a:pt x="120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11" y="20200"/>
                </a:lnTo>
                <a:close/>
              </a:path>
              <a:path fill="lighten" w="120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0911" h="21600">
                <a:moveTo>
                  <a:pt x="53449" y="10800"/>
                </a:moveTo>
                <a:lnTo>
                  <a:pt x="67462" y="3794"/>
                </a:lnTo>
                <a:lnTo>
                  <a:pt x="6746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　　　上流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8560" y="685800"/>
            <a:ext cx="7071120" cy="5302080"/>
            <a:chOff x="1798560" y="685800"/>
            <a:chExt cx="7071120" cy="5302080"/>
          </a:xfrm>
        </p:grpSpPr>
        <p:pic>
          <p:nvPicPr>
            <p:cNvPr id="107" name="IPSdownstream14" descr=""/>
            <p:cNvPicPr/>
            <p:nvPr/>
          </p:nvPicPr>
          <p:blipFill>
            <a:blip r:embed="rId2"/>
            <a:stretch/>
          </p:blipFill>
          <p:spPr>
            <a:xfrm>
              <a:off x="2787480" y="685800"/>
              <a:ext cx="6019560" cy="53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01800" y="1676520"/>
              <a:ext cx="95508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D c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r>
                <a:rPr b="0" i="1" lang="ja-JP" sz="18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i="1" lang="ja-JP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ja-JP" sz="1800" spc="-1" strike="noStrike">
                  <a:solidFill>
                    <a:srgbClr val="000000"/>
                  </a:solidFill>
                  <a:latin typeface="Times New Roman"/>
                </a:rPr>
                <a:t>(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98560" y="3962520"/>
              <a:ext cx="97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ff"/>
                  </a:solidFill>
                  <a:latin typeface="Times New Roman"/>
                </a:rPr>
                <a:t>one cou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ja-JP" sz="1600" spc="-1" strike="noStrike">
                  <a:solidFill>
                    <a:srgbClr val="0000ff"/>
                  </a:solidFill>
                  <a:latin typeface="Times New Roman"/>
                </a:rPr>
                <a:t>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61680" y="4419720"/>
              <a:ext cx="100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→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反太陽方向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68880" y="15238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子午面断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16600" y="34290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赤道面断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92400" y="4572000"/>
              <a:ext cx="113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Times New Roman"/>
                </a:rPr>
                <a:t>陽子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(heat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37200" y="312408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800km/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464000" y="3429000"/>
              <a:ext cx="151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83080" y="1081080"/>
              <a:ext cx="264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衝撃波</a:t>
              </a:r>
              <a:r>
                <a:rPr b="1" lang="ja-JP" sz="1800" spc="-1" strike="noStrike">
                  <a:solidFill>
                    <a:srgbClr val="ff0000"/>
                  </a:solidFill>
                  <a:latin typeface="Times New Roman"/>
                </a:rPr>
                <a:t>下流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側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09:03:22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～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分間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PlaceHolder 2"/>
            <p:cNvSpPr>
              <a:spLocks noGrp="1"/>
            </p:cNvSpPr>
            <p:nvPr>
              <p:ph type="subTitle"/>
            </p:nvPr>
          </p:nvSpPr>
          <p:spPr>
            <a:xfrm>
              <a:off x="2787480" y="5557680"/>
              <a:ext cx="691920" cy="3096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97160" y="5562720"/>
              <a:ext cx="914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09520" y="563868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m/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558880" y="4190760"/>
              <a:ext cx="761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240320" y="3189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eV/q~8keV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67400" y="57913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速度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*sqrt(M/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1066680"/>
            <a:ext cx="1676520" cy="2134440"/>
            <a:chOff x="0" y="1066680"/>
            <a:chExt cx="1676520" cy="2134440"/>
          </a:xfrm>
        </p:grpSpPr>
        <p:sp>
          <p:nvSpPr>
            <p:cNvPr id="124" name=""/>
            <p:cNvSpPr/>
            <p:nvPr/>
          </p:nvSpPr>
          <p:spPr>
            <a:xfrm>
              <a:off x="0" y="2133720"/>
              <a:ext cx="1676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緯度方向に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つのセンサーを持ち、エネルギー方向の掃引は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ミリ秒ごと。一方、衛星のスピン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秒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を用いて経度方向の掃引を行っている。 こうして得られた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次元分布関数は、テレメトリ容量の関係で、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秒間機上で積分された後、地上に送られる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400" y="1066680"/>
              <a:ext cx="134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GEOTAIL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搭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静電型分析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によ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4343400" y="0"/>
            <a:ext cx="4800600" cy="4322880"/>
            <a:chOff x="4343400" y="0"/>
            <a:chExt cx="4800600" cy="4322880"/>
          </a:xfrm>
        </p:grpSpPr>
        <p:graphicFrame>
          <p:nvGraphicFramePr>
            <p:cNvPr id="127" name=""/>
            <p:cNvGraphicFramePr/>
            <p:nvPr/>
          </p:nvGraphicFramePr>
          <p:xfrm>
            <a:off x="4343400" y="820800"/>
            <a:ext cx="4800600" cy="350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400" y="820800"/>
                      <a:ext cx="4800600" cy="350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"/>
            <p:cNvSpPr/>
            <p:nvPr/>
          </p:nvSpPr>
          <p:spPr>
            <a:xfrm>
              <a:off x="5063760" y="0"/>
              <a:ext cx="3614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ergy spect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(60eV-40keV)      p(50keV-10Me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06000" y="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P shock on 21 Feb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33320" y="3836880"/>
            <a:ext cx="183960" cy="2362320"/>
            <a:chOff x="733320" y="3836880"/>
            <a:chExt cx="183960" cy="2362320"/>
          </a:xfrm>
        </p:grpSpPr>
        <p:sp>
          <p:nvSpPr>
            <p:cNvPr id="132" name=""/>
            <p:cNvSpPr/>
            <p:nvPr/>
          </p:nvSpPr>
          <p:spPr>
            <a:xfrm>
              <a:off x="733320" y="383688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3320" y="437040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3320" y="5802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572000" y="5943600"/>
            <a:ext cx="441972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shoc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~375 km/s in the upstream plasma rest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~5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hock angle~68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5105520"/>
            <a:ext cx="488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Shimada’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電子衝撃波加速、非線形衝撃波の存在証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3160" y="5181480"/>
            <a:ext cx="181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15520" y="914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下流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8120" y="2133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上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44197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＊下流の電子の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keV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以下には熱的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tail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が重なってい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320" y="654120"/>
            <a:ext cx="4572360" cy="5748840"/>
            <a:chOff x="22320" y="654120"/>
            <a:chExt cx="4572360" cy="5748840"/>
          </a:xfrm>
        </p:grpSpPr>
        <p:grpSp>
          <p:nvGrpSpPr>
            <p:cNvPr id="142" name=""/>
            <p:cNvGrpSpPr/>
            <p:nvPr/>
          </p:nvGrpSpPr>
          <p:grpSpPr>
            <a:xfrm>
              <a:off x="22320" y="654120"/>
              <a:ext cx="4572360" cy="5748840"/>
              <a:chOff x="22320" y="654120"/>
              <a:chExt cx="4572360" cy="57488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22320" y="654120"/>
                <a:ext cx="4549680" cy="5688000"/>
                <a:chOff x="22320" y="654120"/>
                <a:chExt cx="4549680" cy="5688000"/>
              </a:xfrm>
            </p:grpSpPr>
            <p:pic>
              <p:nvPicPr>
                <p:cNvPr id="144" name="19940221e_omni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320" y="3124080"/>
                  <a:ext cx="4495680" cy="32180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5" name=""/>
                <p:cNvGrpSpPr/>
                <p:nvPr/>
              </p:nvGrpSpPr>
              <p:grpSpPr>
                <a:xfrm>
                  <a:off x="22320" y="654120"/>
                  <a:ext cx="4473360" cy="2547000"/>
                  <a:chOff x="22320" y="654120"/>
                  <a:chExt cx="4473360" cy="2547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1850760" y="654120"/>
                    <a:ext cx="8834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400" spc="-1" strike="noStrike">
                        <a:solidFill>
                          <a:srgbClr val="ff0000"/>
                        </a:solidFill>
                        <a:latin typeface="Arial"/>
                      </a:rPr>
                      <a:t>IPShock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2320" y="882720"/>
                    <a:ext cx="4473360" cy="1936800"/>
                    <a:chOff x="22320" y="882720"/>
                    <a:chExt cx="4473360" cy="1936800"/>
                  </a:xfrm>
                </p:grpSpPr>
                <p:graphicFrame>
                  <p:nvGraphicFramePr>
                    <p:cNvPr id="148" name=""/>
                    <p:cNvGraphicFramePr/>
                    <p:nvPr/>
                  </p:nvGraphicFramePr>
                  <p:xfrm>
                    <a:off x="22320" y="882720"/>
                    <a:ext cx="4473360" cy="1936800"/>
                  </p:xfrm>
                  <a:graphic>
                    <a:graphicData uri="http://schemas.openxmlformats.org/presentationml/2006/ole">
                      <p:oleObj r:id="rId4" spid="">
                        <p:embed/>
                        <p:pic>
                          <p:nvPicPr>
                            <p:cNvPr id="149" name="" descr=""/>
                            <p:cNvPicPr/>
                            <p:nvPr/>
                          </p:nvPicPr>
                          <p:blipFill>
                            <a:blip r:embed="rId5"/>
                            <a:stretch/>
                          </p:blipFill>
                          <p:spPr>
                            <a:xfrm>
                              <a:off x="22320" y="882720"/>
                              <a:ext cx="4473360" cy="19368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grpSp>
                  <p:nvGrpSpPr>
                    <p:cNvPr id="150" name=""/>
                    <p:cNvGrpSpPr/>
                    <p:nvPr/>
                  </p:nvGrpSpPr>
                  <p:grpSpPr>
                    <a:xfrm>
                      <a:off x="330480" y="1111320"/>
                      <a:ext cx="551160" cy="869760"/>
                      <a:chOff x="330480" y="1111320"/>
                      <a:chExt cx="551160" cy="869760"/>
                    </a:xfrm>
                  </p:grpSpPr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330480" y="1111320"/>
                        <a:ext cx="55116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ja-JP" sz="1600" spc="-1" strike="noStrike">
                            <a:solidFill>
                              <a:srgbClr val="ff3300"/>
                            </a:solidFill>
                            <a:latin typeface="Times New Roman"/>
                          </a:rPr>
                          <a:t>flare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624600" y="1371600"/>
                        <a:ext cx="0" cy="6094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479160" y="2863800"/>
                    <a:ext cx="3962160" cy="337320"/>
                    <a:chOff x="479160" y="2863800"/>
                    <a:chExt cx="3962160" cy="33732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479160" y="2866680"/>
                      <a:ext cx="3962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003760" y="2863800"/>
                      <a:ext cx="8877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 h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6" name=""/>
                <p:cNvSpPr/>
                <p:nvPr/>
              </p:nvSpPr>
              <p:spPr>
                <a:xfrm flipH="1">
                  <a:off x="533520" y="2819520"/>
                  <a:ext cx="121896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24080" y="2819520"/>
                  <a:ext cx="12193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49640" y="3924360"/>
                <a:ext cx="2287080" cy="1969200"/>
                <a:chOff x="449640" y="3924360"/>
                <a:chExt cx="2287080" cy="19692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50000" y="3924360"/>
                  <a:ext cx="889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Times New Roman"/>
                    </a:rPr>
                    <a:t>~0.5ke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50000" y="4336920"/>
                  <a:ext cx="889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Times New Roman"/>
                    </a:rPr>
                    <a:t>~1.2ke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50000" y="4717800"/>
                  <a:ext cx="889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Times New Roman"/>
                    </a:rPr>
                    <a:t>~3.5ke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49640" y="5143320"/>
                  <a:ext cx="839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Times New Roman"/>
                    </a:rPr>
                    <a:t>~10ke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897560" y="5556240"/>
                  <a:ext cx="839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Times New Roman"/>
                    </a:rPr>
                    <a:t>~17ke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630360" y="3287880"/>
                <a:ext cx="12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000" spc="-1" strike="noStrike">
                    <a:solidFill>
                      <a:srgbClr val="ff0000"/>
                    </a:solidFill>
                    <a:latin typeface="Times New Roman"/>
                  </a:rPr>
                  <a:t>　　　電子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284040" y="6095880"/>
                <a:ext cx="4310640" cy="307080"/>
                <a:chOff x="284040" y="6095880"/>
                <a:chExt cx="4310640" cy="307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84040" y="6095880"/>
                  <a:ext cx="51768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U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058480" y="6095880"/>
                  <a:ext cx="60732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</a:rPr>
                    <a:t>12U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987360" y="6095880"/>
                  <a:ext cx="60732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</a:rPr>
                    <a:t>24U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 flipV="1">
              <a:off x="1841400" y="314892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31436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陽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4343400" y="0"/>
            <a:ext cx="4800600" cy="4322880"/>
            <a:chOff x="4343400" y="0"/>
            <a:chExt cx="4800600" cy="4322880"/>
          </a:xfrm>
        </p:grpSpPr>
        <p:graphicFrame>
          <p:nvGraphicFramePr>
            <p:cNvPr id="172" name=""/>
            <p:cNvGraphicFramePr/>
            <p:nvPr/>
          </p:nvGraphicFramePr>
          <p:xfrm>
            <a:off x="4343400" y="820800"/>
            <a:ext cx="4800600" cy="350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400" y="820800"/>
                      <a:ext cx="4800600" cy="350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5063760" y="0"/>
              <a:ext cx="3614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ergy spect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(60eV-40keV)      p(50keV-10Me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85800" y="5181480"/>
            <a:ext cx="45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solar wind alph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solar windprot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8920" y="5226120"/>
            <a:ext cx="4046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185760" y="5616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keV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6000" y="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P shock on 21 Feb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33320" y="3836880"/>
            <a:ext cx="183960" cy="2362320"/>
            <a:chOff x="733320" y="3836880"/>
            <a:chExt cx="183960" cy="2362320"/>
          </a:xfrm>
        </p:grpSpPr>
        <p:sp>
          <p:nvSpPr>
            <p:cNvPr id="180" name=""/>
            <p:cNvSpPr/>
            <p:nvPr/>
          </p:nvSpPr>
          <p:spPr>
            <a:xfrm>
              <a:off x="733320" y="383688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3320" y="437040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3320" y="5802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79240" y="586728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-t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6340320"/>
            <a:ext cx="44197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shoc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~375 km/s in the upstream plasma rest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~5.8, shock angle~68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5105520"/>
            <a:ext cx="48844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Shimada’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電子衝撃波加速、非線形衝撃波の存在証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Shimada et al., Astrophys. Space Sci. 1999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Terasawa et al., Adv. Space Res.,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3160" y="5181480"/>
            <a:ext cx="181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5160" y="43815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0" y="654120"/>
            <a:ext cx="4709880" cy="6204600"/>
            <a:chOff x="0" y="654120"/>
            <a:chExt cx="4709880" cy="6204600"/>
          </a:xfrm>
        </p:grpSpPr>
        <p:grpSp>
          <p:nvGrpSpPr>
            <p:cNvPr id="189" name=""/>
            <p:cNvGrpSpPr/>
            <p:nvPr/>
          </p:nvGrpSpPr>
          <p:grpSpPr>
            <a:xfrm>
              <a:off x="22320" y="654120"/>
              <a:ext cx="4473360" cy="2547000"/>
              <a:chOff x="22320" y="654120"/>
              <a:chExt cx="4473360" cy="2547000"/>
            </a:xfrm>
          </p:grpSpPr>
          <p:sp>
            <p:nvSpPr>
              <p:cNvPr id="190" name=""/>
              <p:cNvSpPr/>
              <p:nvPr/>
            </p:nvSpPr>
            <p:spPr>
              <a:xfrm>
                <a:off x="1850760" y="654120"/>
                <a:ext cx="88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ff0000"/>
                    </a:solidFill>
                    <a:latin typeface="Arial"/>
                  </a:rPr>
                  <a:t>IPShoc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22320" y="882720"/>
                <a:ext cx="4473360" cy="1936800"/>
                <a:chOff x="22320" y="882720"/>
                <a:chExt cx="4473360" cy="1936800"/>
              </a:xfrm>
            </p:grpSpPr>
            <p:graphicFrame>
              <p:nvGraphicFramePr>
                <p:cNvPr id="192" name=""/>
                <p:cNvGraphicFramePr/>
                <p:nvPr/>
              </p:nvGraphicFramePr>
              <p:xfrm>
                <a:off x="22320" y="882720"/>
                <a:ext cx="4473360" cy="19368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9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22320" y="882720"/>
                          <a:ext cx="4473360" cy="1936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194" name=""/>
                <p:cNvGrpSpPr/>
                <p:nvPr/>
              </p:nvGrpSpPr>
              <p:grpSpPr>
                <a:xfrm>
                  <a:off x="330480" y="1111320"/>
                  <a:ext cx="551160" cy="869760"/>
                  <a:chOff x="330480" y="1111320"/>
                  <a:chExt cx="551160" cy="8697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330480" y="1111320"/>
                    <a:ext cx="551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flar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24600" y="1371600"/>
                    <a:ext cx="0" cy="6094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479160" y="2863800"/>
                <a:ext cx="3962160" cy="337320"/>
                <a:chOff x="479160" y="2863800"/>
                <a:chExt cx="3962160" cy="3373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79160" y="2866680"/>
                  <a:ext cx="396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003760" y="2863800"/>
                  <a:ext cx="887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600" spc="-1" strike="noStrike">
                      <a:solidFill>
                        <a:srgbClr val="000000"/>
                      </a:solidFill>
                      <a:latin typeface="Times New Roman"/>
                    </a:rPr>
                    <a:t>72 hou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0" y="2819520"/>
              <a:ext cx="4709880" cy="4039200"/>
              <a:chOff x="0" y="2819520"/>
              <a:chExt cx="4709880" cy="4039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0" y="3276720"/>
                <a:ext cx="4709880" cy="3582000"/>
                <a:chOff x="0" y="3276720"/>
                <a:chExt cx="4709880" cy="358200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501480" y="3276720"/>
                  <a:ext cx="4032360" cy="2982960"/>
                  <a:chOff x="501480" y="3276720"/>
                  <a:chExt cx="4032360" cy="2982960"/>
                </a:xfrm>
              </p:grpSpPr>
              <p:graphicFrame>
                <p:nvGraphicFramePr>
                  <p:cNvPr id="203" name=""/>
                  <p:cNvGraphicFramePr/>
                  <p:nvPr/>
                </p:nvGraphicFramePr>
                <p:xfrm>
                  <a:off x="501480" y="3397320"/>
                  <a:ext cx="4032360" cy="2862360"/>
                </p:xfrm>
                <a:graphic>
                  <a:graphicData uri="http://schemas.openxmlformats.org/presentationml/2006/ole">
                    <p:oleObj r:id="rId5" spid="">
                      <p:embed/>
                      <p:pic>
                        <p:nvPicPr>
                          <p:cNvPr id="204" name="" descr=""/>
                          <p:cNvPicPr/>
                          <p:nvPr/>
                        </p:nvPicPr>
                        <p:blipFill>
                          <a:blip r:embed="rId6"/>
                          <a:stretch/>
                        </p:blipFill>
                        <p:spPr>
                          <a:xfrm>
                            <a:off x="501480" y="3397320"/>
                            <a:ext cx="4032360" cy="28623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05" name=""/>
                  <p:cNvSpPr/>
                  <p:nvPr/>
                </p:nvSpPr>
                <p:spPr>
                  <a:xfrm>
                    <a:off x="4114800" y="3276720"/>
                    <a:ext cx="380880" cy="190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aphicFrame>
              <p:nvGraphicFramePr>
                <p:cNvPr id="206" name=""/>
                <p:cNvGraphicFramePr/>
                <p:nvPr/>
              </p:nvGraphicFramePr>
              <p:xfrm>
                <a:off x="0" y="3352680"/>
                <a:ext cx="4267080" cy="19051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0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0" y="3352680"/>
                          <a:ext cx="4267080" cy="1905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8" name=""/>
                <p:cNvSpPr/>
                <p:nvPr/>
              </p:nvSpPr>
              <p:spPr>
                <a:xfrm>
                  <a:off x="62280" y="6184800"/>
                  <a:ext cx="4647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07          08           09           10           1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3320" y="6521400"/>
                  <a:ext cx="28414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UT on 21 Feb 199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flipH="1">
                <a:off x="685800" y="2819520"/>
                <a:ext cx="1447920" cy="609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87520" y="2819520"/>
                <a:ext cx="1727280" cy="609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5015520" y="914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下流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38120" y="2133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上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44197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＊下流の電子の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keV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以下には熱的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tail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が重なってい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-217440" y="304920"/>
            <a:ext cx="5017680" cy="6506640"/>
            <a:chOff x="-217440" y="304920"/>
            <a:chExt cx="5017680" cy="6506640"/>
          </a:xfrm>
        </p:grpSpPr>
        <p:grpSp>
          <p:nvGrpSpPr>
            <p:cNvPr id="216" name=""/>
            <p:cNvGrpSpPr/>
            <p:nvPr/>
          </p:nvGrpSpPr>
          <p:grpSpPr>
            <a:xfrm>
              <a:off x="-217440" y="304920"/>
              <a:ext cx="5017680" cy="6095880"/>
              <a:chOff x="-217440" y="304920"/>
              <a:chExt cx="5017680" cy="609588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-217440" y="304920"/>
                <a:ext cx="5017680" cy="6095880"/>
                <a:chOff x="-217440" y="304920"/>
                <a:chExt cx="5017680" cy="609588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-217440" y="533520"/>
                  <a:ext cx="5017680" cy="5867280"/>
                  <a:chOff x="-217440" y="533520"/>
                  <a:chExt cx="5017680" cy="586728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-217440" y="533520"/>
                    <a:ext cx="5017680" cy="5867280"/>
                    <a:chOff x="-217440" y="533520"/>
                    <a:chExt cx="5017680" cy="586728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-217440" y="533520"/>
                      <a:ext cx="5017680" cy="5867280"/>
                      <a:chOff x="-217440" y="533520"/>
                      <a:chExt cx="5017680" cy="5867280"/>
                    </a:xfrm>
                  </p:grpSpPr>
                  <p:graphicFrame>
                    <p:nvGraphicFramePr>
                      <p:cNvPr id="221" name=""/>
                      <p:cNvGraphicFramePr/>
                      <p:nvPr/>
                    </p:nvGraphicFramePr>
                    <p:xfrm>
                      <a:off x="-217440" y="533520"/>
                      <a:ext cx="4525560" cy="1944360"/>
                    </p:xfrm>
                    <a:graphic>
                      <a:graphicData uri="http://schemas.openxmlformats.org/presentationml/2006/ole">
                        <p:oleObj r:id="rId1" spid="">
                          <p:embed/>
                          <p:pic>
                            <p:nvPicPr>
                              <p:cNvPr id="222" name="" descr=""/>
                              <p:cNvPicPr/>
                              <p:nvPr/>
                            </p:nvPicPr>
                            <p:blipFill>
                              <a:blip r:embed="rId2"/>
                              <a:stretch/>
                            </p:blipFill>
                            <p:spPr>
                              <a:xfrm>
                                <a:off x="-217440" y="533520"/>
                                <a:ext cx="4525560" cy="194436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  <p:graphicFrame>
                    <p:nvGraphicFramePr>
                      <p:cNvPr id="223" name=""/>
                      <p:cNvGraphicFramePr/>
                      <p:nvPr/>
                    </p:nvGraphicFramePr>
                    <p:xfrm>
                      <a:off x="278280" y="2524680"/>
                      <a:ext cx="4521960" cy="1901880"/>
                    </p:xfrm>
                    <a:graphic>
                      <a:graphicData uri="http://schemas.openxmlformats.org/presentationml/2006/ole">
                        <p:oleObj r:id="rId3" spid="">
                          <p:embed/>
                          <p:pic>
                            <p:nvPicPr>
                              <p:cNvPr id="224" name="" descr=""/>
                              <p:cNvPicPr/>
                              <p:nvPr/>
                            </p:nvPicPr>
                            <p:blipFill>
                              <a:blip r:embed="rId4"/>
                              <a:stretch/>
                            </p:blipFill>
                            <p:spPr>
                              <a:xfrm>
                                <a:off x="278280" y="2524680"/>
                                <a:ext cx="4521960" cy="190188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  <p:graphicFrame>
                    <p:nvGraphicFramePr>
                      <p:cNvPr id="225" name=""/>
                      <p:cNvGraphicFramePr/>
                      <p:nvPr/>
                    </p:nvGraphicFramePr>
                    <p:xfrm>
                      <a:off x="111600" y="4463280"/>
                      <a:ext cx="4473000" cy="1937520"/>
                    </p:xfrm>
                    <a:graphic>
                      <a:graphicData uri="http://schemas.openxmlformats.org/presentationml/2006/ole">
                        <p:oleObj r:id="rId5" spid="">
                          <p:embed/>
                          <p:pic>
                            <p:nvPicPr>
                              <p:cNvPr id="226" name="" descr=""/>
                              <p:cNvPicPr/>
                              <p:nvPr/>
                            </p:nvPicPr>
                            <p:blipFill>
                              <a:blip r:embed="rId6"/>
                              <a:stretch/>
                            </p:blipFill>
                            <p:spPr>
                              <a:xfrm>
                                <a:off x="111600" y="4463280"/>
                                <a:ext cx="4473000" cy="193752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</p:grp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585720" y="5181840"/>
                      <a:ext cx="181080" cy="380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541800" y="1041480"/>
                    <a:ext cx="551160" cy="869760"/>
                    <a:chOff x="541800" y="1041480"/>
                    <a:chExt cx="551160" cy="8697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41800" y="1041480"/>
                      <a:ext cx="5511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fl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836280" y="1301760"/>
                      <a:ext cx="0" cy="609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1043280" y="3092760"/>
                    <a:ext cx="551160" cy="869760"/>
                    <a:chOff x="1043280" y="3092760"/>
                    <a:chExt cx="551160" cy="86976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1043280" y="3092760"/>
                      <a:ext cx="5511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fl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1337760" y="3353040"/>
                      <a:ext cx="0" cy="609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95640" y="5029560"/>
                    <a:ext cx="551160" cy="869760"/>
                    <a:chOff x="395640" y="5029560"/>
                    <a:chExt cx="551160" cy="8697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395640" y="5029560"/>
                      <a:ext cx="5511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fl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90120" y="5289840"/>
                      <a:ext cx="0" cy="609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2069640" y="304920"/>
                  <a:ext cx="656280" cy="4419720"/>
                  <a:chOff x="2069640" y="304920"/>
                  <a:chExt cx="656280" cy="441972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2069640" y="304920"/>
                    <a:ext cx="6562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shoc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386080" y="584280"/>
                    <a:ext cx="0" cy="2286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386080" y="2514960"/>
                    <a:ext cx="0" cy="2286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367000" y="4496040"/>
                    <a:ext cx="0" cy="2286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2" name=""/>
              <p:cNvSpPr/>
              <p:nvPr/>
            </p:nvSpPr>
            <p:spPr>
              <a:xfrm>
                <a:off x="176040" y="438480"/>
                <a:ext cx="54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Times New Roman"/>
                  </a:rPr>
                  <a:t>2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000" y="2410200"/>
                <a:ext cx="54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Times New Roman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7720" y="4381920"/>
                <a:ext cx="54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Times New Roman"/>
                  </a:rPr>
                  <a:t>199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44680" y="6474240"/>
              <a:ext cx="3962520" cy="337320"/>
              <a:chOff x="544680" y="6474240"/>
              <a:chExt cx="3962520" cy="337320"/>
            </a:xfrm>
          </p:grpSpPr>
          <p:sp>
            <p:nvSpPr>
              <p:cNvPr id="246" name=""/>
              <p:cNvSpPr/>
              <p:nvPr/>
            </p:nvSpPr>
            <p:spPr>
              <a:xfrm>
                <a:off x="544680" y="6477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070000" y="6474240"/>
                <a:ext cx="88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Times New Roman"/>
                  </a:rPr>
                  <a:t>72 hou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2589120" y="152280"/>
            <a:ext cx="213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From Terasawa et al.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62280" y="21337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quasi-parall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6067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quasi-perpendi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62640" y="403848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oblique (~45d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24280" y="7621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衝撃波近傍での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フラックス変化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2590920"/>
            <a:ext cx="4038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電子の加速が明瞭に見られたのは一番下の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Shimada shock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み。他の例では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marginal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あっ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何故、電子加速が珍しいか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Concensu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が得られてい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600200" y="0"/>
            <a:ext cx="7227720" cy="6858000"/>
            <a:chOff x="1600200" y="0"/>
            <a:chExt cx="7227720" cy="6858000"/>
          </a:xfrm>
        </p:grpSpPr>
        <p:sp>
          <p:nvSpPr>
            <p:cNvPr id="255" name=""/>
            <p:cNvSpPr/>
            <p:nvPr/>
          </p:nvSpPr>
          <p:spPr>
            <a:xfrm>
              <a:off x="1600200" y="0"/>
              <a:ext cx="1523880" cy="6858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89440" y="1371600"/>
              <a:ext cx="403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衝撃波通過時にピークを迎えてい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が、エネルギーによる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profile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の違いは衝撃波角に依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314360" y="1981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陽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4022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陽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28640" y="5715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陽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endshow"/>
          </p:cNvPr>
          <p:cNvSpPr/>
          <p:nvPr/>
        </p:nvSpPr>
        <p:spPr>
          <a:xfrm>
            <a:off x="8101080" y="6400800"/>
            <a:ext cx="1042920" cy="457200"/>
          </a:xfrm>
          <a:custGeom>
            <a:avLst/>
            <a:gdLst>
              <a:gd name="textAreaLeft" fmla="*/ 29520 w 1042920"/>
              <a:gd name="textAreaRight" fmla="*/ 1013400 w 1042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50" h="21600">
                <a:moveTo>
                  <a:pt x="0" y="0"/>
                </a:moveTo>
                <a:lnTo>
                  <a:pt x="49250" y="0"/>
                </a:lnTo>
                <a:lnTo>
                  <a:pt x="49250" y="21600"/>
                </a:lnTo>
                <a:lnTo>
                  <a:pt x="0" y="21600"/>
                </a:lnTo>
                <a:close/>
              </a:path>
              <a:path fill="lightenLess" w="49250" h="21600">
                <a:moveTo>
                  <a:pt x="0" y="0"/>
                </a:moveTo>
                <a:lnTo>
                  <a:pt x="49250" y="0"/>
                </a:lnTo>
                <a:lnTo>
                  <a:pt x="47850" y="1400"/>
                </a:lnTo>
                <a:lnTo>
                  <a:pt x="1400" y="1400"/>
                </a:lnTo>
                <a:close/>
              </a:path>
              <a:path fill="darken" w="49250" h="21600">
                <a:moveTo>
                  <a:pt x="49250" y="0"/>
                </a:moveTo>
                <a:lnTo>
                  <a:pt x="49250" y="21600"/>
                </a:lnTo>
                <a:lnTo>
                  <a:pt x="47850" y="20200"/>
                </a:lnTo>
                <a:lnTo>
                  <a:pt x="47850" y="1400"/>
                </a:lnTo>
                <a:close/>
              </a:path>
              <a:path fill="darkenLess" w="49250" h="21600">
                <a:moveTo>
                  <a:pt x="49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50" y="20200"/>
                </a:lnTo>
                <a:close/>
              </a:path>
              <a:path fill="lighten" w="49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50" h="21600">
                <a:moveTo>
                  <a:pt x="24625" y="3837"/>
                </a:moveTo>
                <a:lnTo>
                  <a:pt x="27201" y="6448"/>
                </a:lnTo>
                <a:lnTo>
                  <a:pt x="27201" y="4707"/>
                </a:lnTo>
                <a:lnTo>
                  <a:pt x="28977" y="4707"/>
                </a:lnTo>
                <a:lnTo>
                  <a:pt x="28977" y="8224"/>
                </a:lnTo>
                <a:lnTo>
                  <a:pt x="31588" y="10800"/>
                </a:lnTo>
                <a:lnTo>
                  <a:pt x="29934" y="10800"/>
                </a:lnTo>
                <a:lnTo>
                  <a:pt x="29934" y="17989"/>
                </a:lnTo>
                <a:lnTo>
                  <a:pt x="19316" y="17989"/>
                </a:lnTo>
                <a:lnTo>
                  <a:pt x="19316" y="10800"/>
                </a:lnTo>
                <a:lnTo>
                  <a:pt x="17662" y="10800"/>
                </a:lnTo>
                <a:close/>
              </a:path>
              <a:path fill="darkenLess" w="49250" h="21600">
                <a:moveTo>
                  <a:pt x="27201" y="6448"/>
                </a:moveTo>
                <a:lnTo>
                  <a:pt x="27201" y="4707"/>
                </a:lnTo>
                <a:lnTo>
                  <a:pt x="28977" y="4707"/>
                </a:lnTo>
                <a:lnTo>
                  <a:pt x="28977" y="8224"/>
                </a:lnTo>
                <a:close/>
              </a:path>
              <a:path fill="darkenLess" w="49250" h="21600">
                <a:moveTo>
                  <a:pt x="23702" y="14299"/>
                </a:moveTo>
                <a:lnTo>
                  <a:pt x="25548" y="14299"/>
                </a:lnTo>
                <a:lnTo>
                  <a:pt x="25548" y="17989"/>
                </a:lnTo>
                <a:lnTo>
                  <a:pt x="29934" y="17989"/>
                </a:lnTo>
                <a:lnTo>
                  <a:pt x="29934" y="10800"/>
                </a:lnTo>
                <a:lnTo>
                  <a:pt x="19316" y="10800"/>
                </a:lnTo>
                <a:lnTo>
                  <a:pt x="19316" y="17989"/>
                </a:lnTo>
                <a:lnTo>
                  <a:pt x="23702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21:28:53Z</dcterms:created>
  <dc:creator>tt</dc:creator>
  <dc:description/>
  <dc:language>en-US</dc:language>
  <cp:lastModifiedBy>tt</cp:lastModifiedBy>
  <dcterms:modified xsi:type="dcterms:W3CDTF">2008-12-24T21:49:10Z</dcterms:modified>
  <cp:revision>21</cp:revision>
  <dc:subject/>
  <dc:title>PowerPoint プレゼンテーション</dc:title>
</cp:coreProperties>
</file>