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FEF-7104-4FAB-9772-7C8F6FEF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C60-6CD2-4952-B778-C3B47515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54D-D34B-4C09-A4FD-554A4935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DCE-DEF9-45B1-9BF9-65EE9D6C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185-F7EF-4216-B7A1-1B290473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3DD-73E2-4675-996D-1440734F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36E-7C20-472C-BC89-4659900B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C86-E960-40B9-A15B-7ED01721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851-0E78-4E6E-9A9A-3700A07A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E5E-A976-4105-A643-27755CD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FE0-3B0F-4D82-ACD7-C478FDE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CD4-9C7D-442D-AA80-A0BBB830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066F-7666-4C0D-9676-192B251139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緯度方向に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つのセンサーを持ち、エネルギー方向の掃引は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ミリ秒ごと。一方、衛星のスピン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秒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用いて経度方向の掃引を行っている。 こうして得られた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次元分布関数は、テレメトリ容量の関係で、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秒間機上で積分された後、地上に送られる。右ではこうしたデータを更に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分間足し、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秒ずつずらしてアニメーション化。緑の直線は磁力線方向を示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839080" y="1905120"/>
            <a:ext cx="304560" cy="4205880"/>
            <a:chOff x="8839080" y="1905120"/>
            <a:chExt cx="304560" cy="4205880"/>
          </a:xfrm>
        </p:grpSpPr>
        <p:sp>
          <p:nvSpPr>
            <p:cNvPr id="43" name=""/>
            <p:cNvSpPr/>
            <p:nvPr/>
          </p:nvSpPr>
          <p:spPr>
            <a:xfrm>
              <a:off x="8839080" y="1905120"/>
              <a:ext cx="304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子午面断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39080" y="4800240"/>
              <a:ext cx="304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赤道面断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554520" y="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eV/q~8keV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0"/>
            <a:ext cx="6324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速度空間分布関数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実測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太陽風陽子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粒子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33400" y="38088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下流側では混ざってしまって粒子種を分離できない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804960"/>
            <a:ext cx="7238880" cy="62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21:45:21Z</dcterms:created>
  <dc:creator>寺沢</dc:creator>
  <dc:description/>
  <dc:language>en-US</dc:language>
  <cp:lastModifiedBy>terasawa</cp:lastModifiedBy>
  <dcterms:modified xsi:type="dcterms:W3CDTF">2004-03-24T07:33:45Z</dcterms:modified>
  <cp:revision>16</cp:revision>
  <dc:subject/>
  <dc:title>ｽﾗｲﾄﾞ ﾀｲﾄﾙなし</dc:title>
</cp:coreProperties>
</file>