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84F-6708-4164-A270-98F22BDE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F6A-928A-41FB-B23A-24DBCFE9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662-4657-43F6-B4D8-394A083E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311-0A6A-457D-8E63-8779B3E2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BC6-BDD7-4712-9EED-3EC99457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D44-AB10-4F3A-981C-AB08246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376-466F-4E03-924B-FFE5B1E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D68-E1E0-42B0-869B-FF2C71C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87D-B0B4-4333-AE10-FD764939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496-6814-4467-9F4D-EE85BA2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855-F4FE-49C1-872E-7C40676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82E-C45A-4620-822D-7989383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A133-4B14-41CA-AA4B-B80CEDFBBC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800" y="5335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M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80600" y="5335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TIC 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09880" y="990720"/>
            <a:ext cx="5257800" cy="3733560"/>
            <a:chOff x="3809880" y="990720"/>
            <a:chExt cx="5257800" cy="3733560"/>
          </a:xfrm>
        </p:grpSpPr>
        <p:graphicFrame>
          <p:nvGraphicFramePr>
            <p:cNvPr id="44" name=""/>
            <p:cNvGraphicFramePr/>
            <p:nvPr/>
          </p:nvGraphicFramePr>
          <p:xfrm>
            <a:off x="3809880" y="990720"/>
            <a:ext cx="5257800" cy="373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990720"/>
                      <a:ext cx="5257800" cy="37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246280" y="3425760"/>
              <a:ext cx="31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0                   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1                   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20" y="990720"/>
            <a:ext cx="3836160" cy="3276360"/>
            <a:chOff x="304920" y="990720"/>
            <a:chExt cx="3836160" cy="3276360"/>
          </a:xfrm>
        </p:grpSpPr>
        <p:graphicFrame>
          <p:nvGraphicFramePr>
            <p:cNvPr id="48" name=""/>
            <p:cNvGraphicFramePr/>
            <p:nvPr/>
          </p:nvGraphicFramePr>
          <p:xfrm>
            <a:off x="304920" y="990720"/>
            <a:ext cx="3581280" cy="3251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990720"/>
                      <a:ext cx="3581280" cy="32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691200" y="3898800"/>
              <a:ext cx="344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              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0                       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31800" y="1371600"/>
            <a:ext cx="13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ex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49600" y="2743200"/>
            <a:ext cx="7608600" cy="2593440"/>
            <a:chOff x="849600" y="2743200"/>
            <a:chExt cx="7608600" cy="2593440"/>
          </a:xfrm>
        </p:grpSpPr>
        <p:sp>
          <p:nvSpPr>
            <p:cNvPr id="53" name=""/>
            <p:cNvSpPr/>
            <p:nvPr/>
          </p:nvSpPr>
          <p:spPr>
            <a:xfrm flipV="1">
              <a:off x="2286000" y="3200400"/>
              <a:ext cx="762120" cy="1752480"/>
            </a:xfrm>
            <a:prstGeom prst="line">
              <a:avLst/>
            </a:prstGeom>
            <a:ln w="28440">
              <a:solidFill>
                <a:srgbClr val="3399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362320" y="2743200"/>
              <a:ext cx="6095880" cy="2209680"/>
            </a:xfrm>
            <a:prstGeom prst="line">
              <a:avLst/>
            </a:prstGeom>
            <a:ln w="28440">
              <a:solidFill>
                <a:srgbClr val="3399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9600" y="4876920"/>
              <a:ext cx="3585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33cc33"/>
                  </a:solidFill>
                  <a:latin typeface="Times New Roman"/>
                </a:rPr>
                <a:t>Level of normal GCR e</a:t>
              </a:r>
              <a:r>
                <a:rPr b="1" lang="ja-JP" sz="2400" spc="-1" strike="noStrike" baseline="30000">
                  <a:solidFill>
                    <a:srgbClr val="33cc33"/>
                  </a:solidFill>
                  <a:latin typeface="Times New Roman"/>
                </a:rPr>
                <a:t>+</a:t>
              </a:r>
              <a:r>
                <a:rPr b="1" lang="ja-JP" sz="2400" spc="-1" strike="noStrike">
                  <a:solidFill>
                    <a:srgbClr val="33cc33"/>
                  </a:solidFill>
                  <a:latin typeface="Times New Roman"/>
                </a:rPr>
                <a:t>e</a:t>
              </a:r>
              <a:r>
                <a:rPr b="1" lang="ja-JP" sz="2400" spc="-1" strike="noStrike" baseline="30000">
                  <a:solidFill>
                    <a:srgbClr val="33cc33"/>
                  </a:solidFill>
                  <a:latin typeface="Times New Roman"/>
                </a:rPr>
                <a:t>-</a:t>
              </a:r>
              <a:r>
                <a:rPr b="1" lang="ja-JP" sz="24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25560" y="3048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(e +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6800" y="5791320"/>
            <a:ext cx="47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数百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見られ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um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起源は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1066680"/>
          <a:ext cx="365760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365760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862560" y="533520"/>
            <a:ext cx="24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05520" y="0"/>
          <a:ext cx="378756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0"/>
                    <a:ext cx="3787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486400" y="4295880"/>
          <a:ext cx="3276720" cy="25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295880"/>
                    <a:ext cx="32767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79800" y="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skalenko &amp; Strong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8760" y="3962520"/>
            <a:ext cx="353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rimary GCR 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レベルは既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rimary GC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おける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決定の問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10280" y="3987720"/>
            <a:ext cx="642240" cy="507960"/>
            <a:chOff x="7010280" y="3987720"/>
            <a:chExt cx="642240" cy="507960"/>
          </a:xfrm>
        </p:grpSpPr>
        <p:sp>
          <p:nvSpPr>
            <p:cNvPr id="68" name=""/>
            <p:cNvSpPr/>
            <p:nvPr/>
          </p:nvSpPr>
          <p:spPr>
            <a:xfrm>
              <a:off x="7010280" y="403848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88920" y="3987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380880"/>
            <a:ext cx="8305920" cy="2394720"/>
            <a:chOff x="380880" y="380880"/>
            <a:chExt cx="8305920" cy="2394720"/>
          </a:xfrm>
        </p:grpSpPr>
        <p:sp>
          <p:nvSpPr>
            <p:cNvPr id="71" name=""/>
            <p:cNvSpPr/>
            <p:nvPr/>
          </p:nvSpPr>
          <p:spPr>
            <a:xfrm>
              <a:off x="4114800" y="190476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41360" y="144756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GALPR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2438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0000"/>
                  </a:solidFill>
                  <a:latin typeface="Times New Roman"/>
                </a:rPr>
                <a:t>銀河系内空間での拡散・移流、再加速</a:t>
              </a:r>
              <a:r>
                <a:rPr b="0" lang="ja-JP" sz="1600" spc="-1" strike="noStrike">
                  <a:solidFill>
                    <a:srgbClr val="ff0000"/>
                  </a:solidFill>
                  <a:latin typeface="Times New Roman"/>
                </a:rPr>
                <a:t>e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380880" y="380880"/>
            <a:ext cx="8305920" cy="71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380880"/>
                      <a:ext cx="8305920" cy="71604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>
            <a:off x="4278240" y="51814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(e +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24200" y="4572000"/>
            <a:ext cx="3700080" cy="1999440"/>
            <a:chOff x="1024200" y="4572000"/>
            <a:chExt cx="3700080" cy="1999440"/>
          </a:xfrm>
        </p:grpSpPr>
        <p:sp>
          <p:nvSpPr>
            <p:cNvPr id="78" name=""/>
            <p:cNvSpPr/>
            <p:nvPr/>
          </p:nvSpPr>
          <p:spPr>
            <a:xfrm>
              <a:off x="2743200" y="4572000"/>
              <a:ext cx="1981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438280" y="4952880"/>
              <a:ext cx="91440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24200" y="5562720"/>
              <a:ext cx="29757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未解決の問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　→</a:t>
              </a: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加速解明に有効であっ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　　太陽風内での観測が電子ではま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765440" y="28195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R p + 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endshow"/>
          </p:cNvPr>
          <p:cNvSpPr/>
          <p:nvPr/>
        </p:nvSpPr>
        <p:spPr>
          <a:xfrm>
            <a:off x="4724280" y="655308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49" h="21600">
                <a:moveTo>
                  <a:pt x="29675" y="3837"/>
                </a:moveTo>
                <a:lnTo>
                  <a:pt x="32251" y="6448"/>
                </a:lnTo>
                <a:lnTo>
                  <a:pt x="32251" y="4707"/>
                </a:lnTo>
                <a:lnTo>
                  <a:pt x="34026" y="4707"/>
                </a:lnTo>
                <a:lnTo>
                  <a:pt x="34026" y="8224"/>
                </a:lnTo>
                <a:lnTo>
                  <a:pt x="36637" y="10800"/>
                </a:lnTo>
                <a:lnTo>
                  <a:pt x="34984" y="10800"/>
                </a:lnTo>
                <a:lnTo>
                  <a:pt x="34984" y="17989"/>
                </a:lnTo>
                <a:lnTo>
                  <a:pt x="24365" y="17989"/>
                </a:lnTo>
                <a:lnTo>
                  <a:pt x="24365" y="10800"/>
                </a:lnTo>
                <a:lnTo>
                  <a:pt x="22712" y="10800"/>
                </a:lnTo>
                <a:close/>
              </a:path>
              <a:path fill="darkenLess" w="59349" h="21600">
                <a:moveTo>
                  <a:pt x="32251" y="6448"/>
                </a:moveTo>
                <a:lnTo>
                  <a:pt x="32251" y="4707"/>
                </a:lnTo>
                <a:lnTo>
                  <a:pt x="34026" y="4707"/>
                </a:lnTo>
                <a:lnTo>
                  <a:pt x="34026" y="8224"/>
                </a:lnTo>
                <a:close/>
              </a:path>
              <a:path fill="darkenLess" w="59349" h="21600">
                <a:moveTo>
                  <a:pt x="28752" y="14299"/>
                </a:moveTo>
                <a:lnTo>
                  <a:pt x="30597" y="14299"/>
                </a:lnTo>
                <a:lnTo>
                  <a:pt x="30597" y="17989"/>
                </a:lnTo>
                <a:lnTo>
                  <a:pt x="34984" y="17989"/>
                </a:lnTo>
                <a:lnTo>
                  <a:pt x="34984" y="10800"/>
                </a:lnTo>
                <a:lnTo>
                  <a:pt x="24365" y="10800"/>
                </a:lnTo>
                <a:lnTo>
                  <a:pt x="24365" y="17989"/>
                </a:lnTo>
                <a:lnTo>
                  <a:pt x="2875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21:38:41Z</dcterms:created>
  <dc:creator>tt</dc:creator>
  <dc:description/>
  <dc:language>en-US</dc:language>
  <cp:lastModifiedBy>tt</cp:lastModifiedBy>
  <dcterms:modified xsi:type="dcterms:W3CDTF">2008-12-24T00:06:48Z</dcterms:modified>
  <cp:revision>3</cp:revision>
  <dc:subject/>
  <dc:title>PowerPoint プレゼンテーション</dc:title>
</cp:coreProperties>
</file>